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5FC7-FCEF-4205-A9CA-8ECD3E7FC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from Joe Bullock’s thesis. Primarily concerned with user queries to Tourist Information Services, but the findings have some relevance here. Users of content-providers are often engaged in a similar kind of dialogu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Marcia Bates recent JASIS paper -- comes to similar conclusions about the way that users approach search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just pictures though - that’s where this work has come from, but it’s likely that it’ll all apply to other things. Certainly recent work on classification and thesuari fits very well with what we’re do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browsing and navigating so important, and why would we want consistenc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ent model means that the navigation you get here is consisten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9F4F-FD91-4A24-90BD-B9330C56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C00E-D35A-43CC-924F-E6203615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37FC-DD78-456D-B2DC-513C842F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079-AC37-4F17-B27A-91AC8E70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89E-7A09-4329-BBA8-B334EEC6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4846-903D-403A-AB46-7A108BFC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A17-D2AC-4C9A-8EBE-5386E04B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F48-118B-406B-9B71-B3A3C670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1566-CC28-4E5F-BC0D-E3575685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4F55-18E3-4770-A5B1-F8C03078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2ACD-B12D-46B0-B25D-13FD030E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3EB-FD27-437D-80B0-7A423247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B72E-A5EE-47D2-AACA-76C4717E0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55680"/>
            <a:ext cx="104760" cy="610848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247680"/>
            <a:ext cx="5624640" cy="1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c01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0800000">
            <a:off x="8872200" y="455760"/>
            <a:ext cx="104760" cy="6108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c01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10800000">
            <a:off x="3351240" y="6564240"/>
            <a:ext cx="5624640" cy="1080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Classification Based Navigation and Retrieval for Picture Archive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an Bechhofer, Carole Go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formation Management Grou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niversity of Manchester, U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User Need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Diversit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ide variety of request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787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Luc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ystem should supply the searcher with an idea of what is avail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358776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pontane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scussion is dynamic. The searcher’s interest may evol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4387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idge the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gap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between indexer and sear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Description Logic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ceptual modelling language allowing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classifica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f concept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descrip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279072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ey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reasonin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ervi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sistency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b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trie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4724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Extensib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expressiv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Example Model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imitive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Narrow"/>
              </a:rPr>
              <a:t>Concepts:</a:t>
            </a:r>
            <a:r>
              <a:rPr b="0" lang="en-US" sz="2000" spc="-1" strike="noStrike">
                <a:solidFill>
                  <a:srgbClr val="a50021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Trophy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Cup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Shiel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Clothin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Sui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Narrow"/>
              </a:rPr>
              <a:t>Roles:</a:t>
            </a:r>
            <a:r>
              <a:rPr b="0" lang="en-US" sz="2000" spc="-1" strike="noStrike">
                <a:solidFill>
                  <a:srgbClr val="a50021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wearin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952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Peopl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wear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clothin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;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Peopl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hold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thing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;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Peopl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have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er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058840" y="3656520"/>
            <a:ext cx="5092560" cy="1253160"/>
            <a:chOff x="2058840" y="3656520"/>
            <a:chExt cx="5092560" cy="1253160"/>
          </a:xfrm>
        </p:grpSpPr>
        <p:cxnSp>
          <p:nvCxnSpPr>
            <p:cNvPr id="203" name=""/>
            <p:cNvCxnSpPr>
              <a:stCxn id="204" idx="5"/>
              <a:endCxn id="205" idx="0"/>
            </p:cNvCxnSpPr>
            <p:nvPr/>
          </p:nvCxnSpPr>
          <p:spPr>
            <a:xfrm>
              <a:off x="3242880" y="4008240"/>
              <a:ext cx="251640" cy="50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4" name=""/>
            <p:cNvSpPr/>
            <p:nvPr/>
          </p:nvSpPr>
          <p:spPr>
            <a:xfrm>
              <a:off x="2982960" y="3733920"/>
              <a:ext cx="304560" cy="304560"/>
            </a:xfrm>
            <a:prstGeom prst="ellipse">
              <a:avLst/>
            </a:prstGeom>
            <a:solidFill>
              <a:srgbClr val="33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1520" y="4525920"/>
              <a:ext cx="304920" cy="304920"/>
            </a:xfrm>
            <a:prstGeom prst="ellipse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4" idx="3"/>
              <a:endCxn id="207" idx="0"/>
            </p:cNvCxnSpPr>
            <p:nvPr/>
          </p:nvCxnSpPr>
          <p:spPr>
            <a:xfrm flipH="1">
              <a:off x="2775600" y="4008240"/>
              <a:ext cx="251640" cy="50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2624040" y="4525920"/>
              <a:ext cx="304920" cy="304920"/>
            </a:xfrm>
            <a:prstGeom prst="ellipse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>
              <a:stCxn id="209" idx="4"/>
              <a:endCxn id="210" idx="0"/>
            </p:cNvCxnSpPr>
            <p:nvPr/>
          </p:nvCxnSpPr>
          <p:spPr>
            <a:xfrm>
              <a:off x="6052680" y="4068720"/>
              <a:ext cx="1080" cy="489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9" name=""/>
            <p:cNvSpPr/>
            <p:nvPr/>
          </p:nvSpPr>
          <p:spPr>
            <a:xfrm>
              <a:off x="5900760" y="3749760"/>
              <a:ext cx="304560" cy="304560"/>
            </a:xfrm>
            <a:prstGeom prst="ellipse">
              <a:avLst/>
            </a:prstGeom>
            <a:solidFill>
              <a:srgbClr val="33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00760" y="4572000"/>
              <a:ext cx="304560" cy="304920"/>
            </a:xfrm>
            <a:prstGeom prst="ellipse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43320" y="365652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Troph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48960" y="4433040"/>
              <a:ext cx="7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Shi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58840" y="44330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C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07120" y="367092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Cloth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7120" y="451080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 Narrow"/>
                </a:rPr>
                <a:t>Su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85800" y="5867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cept Forming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3520" y="3204360"/>
            <a:ext cx="23652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Narrow"/>
              </a:rPr>
              <a:t>Don’t need to defi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Narrow"/>
              </a:rPr>
              <a:t>everything beforeh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Dynamic Classification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cxnSp>
        <p:nvCxnSpPr>
          <p:cNvPr id="219" name=""/>
          <p:cNvCxnSpPr>
            <a:stCxn id="220" idx="5"/>
            <a:endCxn id="221" idx="1"/>
          </p:cNvCxnSpPr>
          <p:nvPr/>
        </p:nvCxnSpPr>
        <p:spPr>
          <a:xfrm>
            <a:off x="3079440" y="2484360"/>
            <a:ext cx="54648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21" idx="5"/>
            <a:endCxn id="223" idx="1"/>
          </p:cNvCxnSpPr>
          <p:nvPr/>
        </p:nvCxnSpPr>
        <p:spPr>
          <a:xfrm>
            <a:off x="3841560" y="3551040"/>
            <a:ext cx="2223000" cy="188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21" idx="5"/>
            <a:endCxn id="223" idx="1"/>
          </p:cNvCxnSpPr>
          <p:nvPr/>
        </p:nvCxnSpPr>
        <p:spPr>
          <a:xfrm>
            <a:off x="3841560" y="3551040"/>
            <a:ext cx="2223000" cy="188964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1" idx="5"/>
            <a:endCxn id="226" idx="1"/>
          </p:cNvCxnSpPr>
          <p:nvPr/>
        </p:nvCxnSpPr>
        <p:spPr>
          <a:xfrm>
            <a:off x="3841920" y="3551400"/>
            <a:ext cx="146088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6" idx="5"/>
            <a:endCxn id="223" idx="1"/>
          </p:cNvCxnSpPr>
          <p:nvPr/>
        </p:nvCxnSpPr>
        <p:spPr>
          <a:xfrm>
            <a:off x="5517720" y="4618080"/>
            <a:ext cx="54648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2819520" y="2209680"/>
            <a:ext cx="304560" cy="30492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5410080"/>
            <a:ext cx="304560" cy="304920"/>
          </a:xfrm>
          <a:prstGeom prst="ellipse">
            <a:avLst/>
          </a:prstGeom>
          <a:solidFill>
            <a:srgbClr val="0000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4343400"/>
            <a:ext cx="304920" cy="30492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3276720"/>
            <a:ext cx="304920" cy="304560"/>
          </a:xfrm>
          <a:prstGeom prst="ellipse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6960" y="213264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1880" y="569808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oyal Person in suit, with tro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9440" y="31233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oyal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64880" y="4220280"/>
            <a:ext cx="24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oyal Person with tro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79800" y="4313160"/>
            <a:ext cx="304920" cy="304920"/>
          </a:xfrm>
          <a:prstGeom prst="ellipse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0" idx="4"/>
            <a:endCxn id="232" idx="0"/>
          </p:cNvCxnSpPr>
          <p:nvPr/>
        </p:nvCxnSpPr>
        <p:spPr>
          <a:xfrm>
            <a:off x="2971440" y="2528640"/>
            <a:ext cx="261000" cy="1770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32" idx="5"/>
            <a:endCxn id="223" idx="2"/>
          </p:cNvCxnSpPr>
          <p:nvPr/>
        </p:nvCxnSpPr>
        <p:spPr>
          <a:xfrm>
            <a:off x="3340080" y="4587840"/>
            <a:ext cx="2666160" cy="975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2060640" y="464724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erson in clot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9600" y="5338080"/>
            <a:ext cx="117756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Narrow"/>
              </a:rPr>
              <a:t>Multi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Narrow"/>
              </a:rPr>
              <a:t>hierarch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71360" y="3310560"/>
            <a:ext cx="147924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Narrow"/>
              </a:rPr>
              <a:t>Spar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Narrow"/>
              </a:rPr>
              <a:t>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18120" y="2137680"/>
            <a:ext cx="15732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Narrow"/>
              </a:rPr>
              <a:t>Automatic 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Comparison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th a DL, language for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descrip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the same as the language for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quer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present content via schema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ard to ev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3581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present content via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960" indent="-140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pretation probl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Query Inclusion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311120" y="3449520"/>
            <a:ext cx="6384600" cy="2798640"/>
            <a:chOff x="1311120" y="3449520"/>
            <a:chExt cx="6384600" cy="2798640"/>
          </a:xfrm>
        </p:grpSpPr>
        <p:sp>
          <p:nvSpPr>
            <p:cNvPr id="245" name=""/>
            <p:cNvSpPr/>
            <p:nvPr/>
          </p:nvSpPr>
          <p:spPr>
            <a:xfrm>
              <a:off x="1311120" y="3449520"/>
              <a:ext cx="6384600" cy="2798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58680" y="3760560"/>
              <a:ext cx="5532480" cy="2176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85640" y="4056840"/>
              <a:ext cx="2209680" cy="1647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76560" y="4056840"/>
              <a:ext cx="2209680" cy="1647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70600" y="3453840"/>
              <a:ext cx="74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er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40480" y="3750120"/>
              <a:ext cx="200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erson holding Troph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08040" y="4059720"/>
              <a:ext cx="17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erson holding C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23720" y="4111560"/>
              <a:ext cx="193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erson holding Sh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72760" y="5093640"/>
              <a:ext cx="162000" cy="171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84240" y="4921560"/>
              <a:ext cx="162000" cy="171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17920" y="4921560"/>
              <a:ext cx="162000" cy="171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73280" y="5265000"/>
              <a:ext cx="161640" cy="1717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11280" y="4921560"/>
              <a:ext cx="162000" cy="17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72760" y="4228560"/>
              <a:ext cx="162000" cy="17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03680" y="5093640"/>
              <a:ext cx="162000" cy="1713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79920" y="5265000"/>
              <a:ext cx="161640" cy="17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ification supports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Query i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ptim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838600" y="4738680"/>
            <a:ext cx="2361960" cy="3988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nguage/Extrin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Architecture of our DL model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imitive fac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"/>
          <p:cNvSpPr/>
          <p:nvPr/>
        </p:nvSpPr>
        <p:spPr>
          <a:xfrm>
            <a:off x="2838600" y="5907240"/>
            <a:ext cx="23619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im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38600" y="5119560"/>
            <a:ext cx="2361960" cy="39888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38600" y="5500800"/>
            <a:ext cx="236196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5400000">
            <a:off x="4615200" y="5326560"/>
            <a:ext cx="15746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24336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osition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3809880"/>
            <a:ext cx="525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 accessed via an API defined in terms of these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2886120"/>
            <a:ext cx="3276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9161000">
            <a:off x="5791320" y="4809960"/>
            <a:ext cx="1218960" cy="381240"/>
          </a:xfrm>
          <a:prstGeom prst="leftRightArrow">
            <a:avLst>
              <a:gd name="adj1" fmla="val 60120"/>
              <a:gd name="adj2" fmla="val 1082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781680" y="3514680"/>
            <a:ext cx="1524240" cy="1374120"/>
            <a:chOff x="6781680" y="3514680"/>
            <a:chExt cx="1524240" cy="1374120"/>
          </a:xfrm>
        </p:grpSpPr>
        <p:sp>
          <p:nvSpPr>
            <p:cNvPr id="274" name=""/>
            <p:cNvSpPr/>
            <p:nvPr/>
          </p:nvSpPr>
          <p:spPr>
            <a:xfrm>
              <a:off x="7086600" y="3514680"/>
              <a:ext cx="914400" cy="914400"/>
            </a:xfrm>
            <a:prstGeom prst="smileyFace">
              <a:avLst>
                <a:gd name="adj" fmla="val 9282"/>
              </a:avLst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1680" y="4429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727360" y="4648320"/>
            <a:ext cx="4725720" cy="1907640"/>
            <a:chOff x="2727360" y="4648320"/>
            <a:chExt cx="4725720" cy="1907640"/>
          </a:xfrm>
        </p:grpSpPr>
        <p:sp>
          <p:nvSpPr>
            <p:cNvPr id="277" name=""/>
            <p:cNvSpPr/>
            <p:nvPr/>
          </p:nvSpPr>
          <p:spPr>
            <a:xfrm>
              <a:off x="2727360" y="4648320"/>
              <a:ext cx="2982960" cy="174708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15000" y="5913360"/>
              <a:ext cx="17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 Narrow"/>
                </a:rPr>
                <a:t>The Terminolog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 Narrow"/>
                </a:rPr>
                <a:t>Server (T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85800" y="3348000"/>
            <a:ext cx="56386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ther Functionality - Extrinsics or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Query Interface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n’t expect users to express their queries in the D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erson </a:t>
            </a:r>
            <a:r>
              <a:rPr b="0" lang="en-US" sz="2000" spc="-1" strike="noStrike">
                <a:solidFill>
                  <a:srgbClr val="000000"/>
                </a:solidFill>
                <a:latin typeface="Bookshelf Symbol 5"/>
                <a:ea typeface="Bookshelf Symbol 5"/>
              </a:rPr>
              <a:t>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olds:Trophy </a:t>
            </a:r>
            <a:r>
              <a:rPr b="0" lang="en-US" sz="2000" spc="-1" strike="noStrike">
                <a:solidFill>
                  <a:srgbClr val="000000"/>
                </a:solidFill>
                <a:latin typeface="Bookshelf Symbol 5"/>
                <a:ea typeface="Bookshelf Symbol 5"/>
              </a:rPr>
              <a:t>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atus:Royal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"/>
          <p:cNvSpPr/>
          <p:nvPr/>
        </p:nvSpPr>
        <p:spPr>
          <a:xfrm>
            <a:off x="5486400" y="2438280"/>
            <a:ext cx="304920" cy="304920"/>
          </a:xfrm>
          <a:prstGeom prst="smileyFace">
            <a:avLst>
              <a:gd name="adj" fmla="val -4652"/>
            </a:avLst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2895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Graphical interfac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driven by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34290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str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pecialization/Genera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placement of Sub-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5029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Naviga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f the Meta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oyal-suit-trophy" descr=""/>
          <p:cNvPicPr/>
          <p:nvPr/>
        </p:nvPicPr>
        <p:blipFill>
          <a:blip r:embed="rId1"/>
          <a:stretch/>
        </p:blipFill>
        <p:spPr>
          <a:xfrm>
            <a:off x="685800" y="1946160"/>
            <a:ext cx="5578560" cy="3006720"/>
          </a:xfrm>
          <a:prstGeom prst="rect">
            <a:avLst/>
          </a:prstGeom>
          <a:ln w="0">
            <a:noFill/>
          </a:ln>
        </p:spPr>
      </p:pic>
      <p:pic>
        <p:nvPicPr>
          <p:cNvPr id="287" name="royal-suit-trophy2" descr=""/>
          <p:cNvPicPr/>
          <p:nvPr/>
        </p:nvPicPr>
        <p:blipFill>
          <a:blip r:embed="rId2"/>
          <a:stretch/>
        </p:blipFill>
        <p:spPr>
          <a:xfrm>
            <a:off x="685800" y="1946160"/>
            <a:ext cx="5578560" cy="30067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Query Interface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571640" y="1680480"/>
            <a:ext cx="3191400" cy="1291320"/>
            <a:chOff x="4571640" y="1680480"/>
            <a:chExt cx="3191400" cy="1291320"/>
          </a:xfrm>
        </p:grpSpPr>
        <p:sp>
          <p:nvSpPr>
            <p:cNvPr id="290" name=""/>
            <p:cNvSpPr/>
            <p:nvPr/>
          </p:nvSpPr>
          <p:spPr>
            <a:xfrm>
              <a:off x="6575040" y="1680480"/>
              <a:ext cx="1188000" cy="64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 Narrow"/>
                </a:rPr>
                <a:t>Quer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 Narrow"/>
                </a:rPr>
                <a:t>Expr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1981080"/>
              <a:ext cx="1994040" cy="9907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14240" y="4524480"/>
            <a:ext cx="5486400" cy="1795680"/>
            <a:chOff x="714240" y="4524480"/>
            <a:chExt cx="5486400" cy="1795680"/>
          </a:xfrm>
        </p:grpSpPr>
        <p:sp>
          <p:nvSpPr>
            <p:cNvPr id="293" name=""/>
            <p:cNvSpPr/>
            <p:nvPr/>
          </p:nvSpPr>
          <p:spPr>
            <a:xfrm>
              <a:off x="3231000" y="5677560"/>
              <a:ext cx="1332720" cy="64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 Narrow"/>
                </a:rPr>
                <a:t>Mani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 Narrow"/>
                </a:rPr>
                <a:t>Contr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4240" y="4524480"/>
              <a:ext cx="5486400" cy="304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4" idx="2"/>
              <a:endCxn id="293" idx="0"/>
            </p:cNvCxnSpPr>
            <p:nvPr/>
          </p:nvCxnSpPr>
          <p:spPr>
            <a:xfrm>
              <a:off x="3457440" y="4829040"/>
              <a:ext cx="440640" cy="845280"/>
            </a:xfrm>
            <a:prstGeom prst="straightConnector1">
              <a:avLst/>
            </a:prstGeom>
            <a:ln w="9360">
              <a:solidFill>
                <a:srgbClr val="a50021"/>
              </a:solidFill>
              <a:miter/>
            </a:ln>
          </p:spPr>
        </p:cxnSp>
      </p:grpSp>
      <p:grpSp>
        <p:nvGrpSpPr>
          <p:cNvPr id="296" name=""/>
          <p:cNvGrpSpPr/>
          <p:nvPr/>
        </p:nvGrpSpPr>
        <p:grpSpPr>
          <a:xfrm>
            <a:off x="3474720" y="3200040"/>
            <a:ext cx="4555800" cy="2399400"/>
            <a:chOff x="3474720" y="3200040"/>
            <a:chExt cx="4555800" cy="2399400"/>
          </a:xfrm>
        </p:grpSpPr>
        <p:sp>
          <p:nvSpPr>
            <p:cNvPr id="297" name=""/>
            <p:cNvSpPr/>
            <p:nvPr/>
          </p:nvSpPr>
          <p:spPr>
            <a:xfrm>
              <a:off x="6728040" y="4956840"/>
              <a:ext cx="1302480" cy="64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 Narrow"/>
                </a:rPr>
                <a:t>Hierarchic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 Narrow"/>
                </a:rPr>
                <a:t>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3474720" y="3200040"/>
              <a:ext cx="3243240" cy="205740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Query Interface - Specialization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300" name="person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5581800" cy="2481480"/>
          </a:xfrm>
          <a:prstGeom prst="rect">
            <a:avLst/>
          </a:prstGeom>
          <a:ln w="0">
            <a:noFill/>
          </a:ln>
        </p:spPr>
      </p:pic>
      <p:pic>
        <p:nvPicPr>
          <p:cNvPr id="301" name="specialize" descr=""/>
          <p:cNvPicPr/>
          <p:nvPr/>
        </p:nvPicPr>
        <p:blipFill>
          <a:blip r:embed="rId2"/>
          <a:stretch/>
        </p:blipFill>
        <p:spPr>
          <a:xfrm>
            <a:off x="3124080" y="1670040"/>
            <a:ext cx="5581800" cy="4425840"/>
          </a:xfrm>
          <a:prstGeom prst="rect">
            <a:avLst/>
          </a:prstGeom>
          <a:ln w="0">
            <a:noFill/>
          </a:ln>
        </p:spPr>
      </p:pic>
      <p:pic>
        <p:nvPicPr>
          <p:cNvPr id="302" name="select-mad-scot" descr=""/>
          <p:cNvPicPr/>
          <p:nvPr/>
        </p:nvPicPr>
        <p:blipFill>
          <a:blip r:embed="rId3"/>
          <a:stretch/>
        </p:blipFill>
        <p:spPr>
          <a:xfrm>
            <a:off x="3124080" y="1670040"/>
            <a:ext cx="5581800" cy="44258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124080" y="1663560"/>
            <a:ext cx="5581800" cy="4432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mad-scot-query" descr=""/>
          <p:cNvPicPr/>
          <p:nvPr/>
        </p:nvPicPr>
        <p:blipFill>
          <a:blip r:embed="rId4"/>
          <a:stretch/>
        </p:blipFill>
        <p:spPr>
          <a:xfrm>
            <a:off x="685800" y="1981080"/>
            <a:ext cx="5581800" cy="2779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371600" y="5109480"/>
            <a:ext cx="243828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ptions based on constraints in th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5109480"/>
            <a:ext cx="243828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ropriate options sel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5109480"/>
            <a:ext cx="243828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Query specialized and class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Overview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"/>
          <p:cNvSpPr/>
          <p:nvPr/>
        </p:nvSpPr>
        <p:spPr>
          <a:xfrm>
            <a:off x="690480" y="2419200"/>
            <a:ext cx="7772400" cy="5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ption Log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846520"/>
            <a:ext cx="77724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ery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292560"/>
            <a:ext cx="77724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0480" y="3727440"/>
            <a:ext cx="77724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uture Work and 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alk1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581800" cy="27576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Query Interface - Navigation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310" name="replace1" descr=""/>
          <p:cNvPicPr/>
          <p:nvPr/>
        </p:nvPicPr>
        <p:blipFill>
          <a:blip r:embed="rId2"/>
          <a:stretch/>
        </p:blipFill>
        <p:spPr>
          <a:xfrm>
            <a:off x="3505320" y="3276720"/>
            <a:ext cx="5146560" cy="2950920"/>
          </a:xfrm>
          <a:prstGeom prst="rect">
            <a:avLst/>
          </a:prstGeom>
          <a:ln w="0">
            <a:noFill/>
          </a:ln>
        </p:spPr>
      </p:pic>
      <p:pic>
        <p:nvPicPr>
          <p:cNvPr id="311" name="replace2" descr=""/>
          <p:cNvPicPr/>
          <p:nvPr/>
        </p:nvPicPr>
        <p:blipFill>
          <a:blip r:embed="rId3"/>
          <a:stretch/>
        </p:blipFill>
        <p:spPr>
          <a:xfrm>
            <a:off x="3505320" y="3276720"/>
            <a:ext cx="5146560" cy="2950920"/>
          </a:xfrm>
          <a:prstGeom prst="rect">
            <a:avLst/>
          </a:prstGeom>
          <a:ln w="0">
            <a:noFill/>
          </a:ln>
        </p:spPr>
      </p:pic>
      <p:pic>
        <p:nvPicPr>
          <p:cNvPr id="312" name="replace3" descr=""/>
          <p:cNvPicPr/>
          <p:nvPr/>
        </p:nvPicPr>
        <p:blipFill>
          <a:blip r:embed="rId4"/>
          <a:stretch/>
        </p:blipFill>
        <p:spPr>
          <a:xfrm>
            <a:off x="3505320" y="3276720"/>
            <a:ext cx="5146560" cy="2950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352680" y="2133720"/>
            <a:ext cx="5299200" cy="4432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talk2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5581800" cy="27576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371600" y="5047560"/>
            <a:ext cx="243828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pt to replace fighting with mu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71600" y="5047560"/>
            <a:ext cx="243828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Query specialized and class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295280" y="3124080"/>
            <a:ext cx="4114800" cy="2057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4120" y="1479600"/>
            <a:ext cx="1594080" cy="11494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67040" y="4334040"/>
            <a:ext cx="1586160" cy="742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The Query Construction Proces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1" name=""/>
          <p:cNvSpPr/>
          <p:nvPr/>
        </p:nvSpPr>
        <p:spPr>
          <a:xfrm>
            <a:off x="3860640" y="2143080"/>
            <a:ext cx="1397160" cy="58068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Acquire new 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019920" y="1756800"/>
            <a:ext cx="1396800" cy="1362960"/>
            <a:chOff x="6019920" y="1756800"/>
            <a:chExt cx="1396800" cy="1362960"/>
          </a:xfrm>
        </p:grpSpPr>
        <p:sp>
          <p:nvSpPr>
            <p:cNvPr id="323" name=""/>
            <p:cNvSpPr/>
            <p:nvPr/>
          </p:nvSpPr>
          <p:spPr>
            <a:xfrm>
              <a:off x="6019920" y="1756800"/>
              <a:ext cx="1396800" cy="337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 Narrow"/>
                </a:rPr>
                <a:t>Bookma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19920" y="2143080"/>
              <a:ext cx="1396800" cy="580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 Narrow"/>
                </a:rPr>
                <a:t>System entry po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19920" y="2782440"/>
              <a:ext cx="1396800" cy="337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 Narrow"/>
                </a:rPr>
                <a:t>Q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860640" y="3284640"/>
            <a:ext cx="1397160" cy="58068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Query Co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98680" y="3192480"/>
            <a:ext cx="1295280" cy="77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Narrow"/>
              </a:rPr>
              <a:t>Doma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Narrow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60640" y="4415040"/>
            <a:ext cx="1397160" cy="58068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Classify and Retrie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4424400"/>
            <a:ext cx="1396800" cy="58068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Manipulate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60640" y="5567040"/>
            <a:ext cx="13971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Ran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19920" y="5415120"/>
            <a:ext cx="1396800" cy="580680"/>
          </a:xfrm>
          <a:prstGeom prst="rect">
            <a:avLst/>
          </a:prstGeom>
          <a:solidFill>
            <a:srgbClr val="cc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 Narrow"/>
              </a:rPr>
              <a:t>Results Retur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08560" y="1828800"/>
            <a:ext cx="635040" cy="1211400"/>
          </a:xfrm>
          <a:prstGeom prst="leftArrowCallout">
            <a:avLst>
              <a:gd name="adj1" fmla="val 15244"/>
              <a:gd name="adj2" fmla="val 19376"/>
              <a:gd name="adj3" fmla="val 34898"/>
              <a:gd name="adj4" fmla="val 1875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68960" y="2744640"/>
            <a:ext cx="380880" cy="517680"/>
          </a:xfrm>
          <a:prstGeom prst="downArrow">
            <a:avLst>
              <a:gd name="adj1" fmla="val 33333"/>
              <a:gd name="adj2" fmla="val 4368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368960" y="3886200"/>
            <a:ext cx="380880" cy="517680"/>
          </a:xfrm>
          <a:prstGeom prst="downArrow">
            <a:avLst>
              <a:gd name="adj1" fmla="val 33333"/>
              <a:gd name="adj2" fmla="val 4368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368960" y="5014800"/>
            <a:ext cx="380880" cy="517680"/>
          </a:xfrm>
          <a:prstGeom prst="downArrow">
            <a:avLst>
              <a:gd name="adj1" fmla="val 33333"/>
              <a:gd name="adj2" fmla="val 4368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5494320" y="5459400"/>
            <a:ext cx="380880" cy="517680"/>
          </a:xfrm>
          <a:prstGeom prst="downArrow">
            <a:avLst>
              <a:gd name="adj1" fmla="val 33333"/>
              <a:gd name="adj2" fmla="val 4368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936880" y="4343400"/>
            <a:ext cx="797040" cy="707760"/>
            <a:chOff x="2936880" y="4343400"/>
            <a:chExt cx="797040" cy="707760"/>
          </a:xfrm>
        </p:grpSpPr>
        <p:sp>
          <p:nvSpPr>
            <p:cNvPr id="338" name=""/>
            <p:cNvSpPr/>
            <p:nvPr/>
          </p:nvSpPr>
          <p:spPr>
            <a:xfrm rot="16200000">
              <a:off x="3144960" y="4135320"/>
              <a:ext cx="380880" cy="797040"/>
            </a:xfrm>
            <a:prstGeom prst="downArrow">
              <a:avLst>
                <a:gd name="adj1" fmla="val 33333"/>
                <a:gd name="adj2" fmla="val 67264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rot="5400000">
              <a:off x="3144600" y="4461840"/>
              <a:ext cx="381240" cy="797040"/>
            </a:xfrm>
            <a:prstGeom prst="downArrow">
              <a:avLst>
                <a:gd name="adj1" fmla="val 33333"/>
                <a:gd name="adj2" fmla="val 6720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95480" y="3433680"/>
            <a:ext cx="868320" cy="300240"/>
          </a:xfrm>
          <a:prstGeom prst="leftRightArrow">
            <a:avLst>
              <a:gd name="adj1" fmla="val 50000"/>
              <a:gd name="adj2" fmla="val 57574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2003040" y="4030560"/>
            <a:ext cx="284400" cy="2998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553080" y="3124080"/>
            <a:ext cx="381240" cy="2286000"/>
          </a:xfrm>
          <a:prstGeom prst="upArrow">
            <a:avLst>
              <a:gd name="adj1" fmla="val 29167"/>
              <a:gd name="adj2" fmla="val 48719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306800">
            <a:off x="2793600" y="3885840"/>
            <a:ext cx="868320" cy="299880"/>
          </a:xfrm>
          <a:prstGeom prst="leftRightArrow">
            <a:avLst>
              <a:gd name="adj1" fmla="val 50000"/>
              <a:gd name="adj2" fmla="val 57643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3520" y="1676520"/>
            <a:ext cx="1295280" cy="7696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Narrow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Narrow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3610200">
            <a:off x="1182240" y="2674800"/>
            <a:ext cx="868320" cy="299880"/>
          </a:xfrm>
          <a:prstGeom prst="leftRightArrow">
            <a:avLst>
              <a:gd name="adj1" fmla="val 50000"/>
              <a:gd name="adj2" fmla="val 57643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Similarity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’d like something like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2425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ery By Example (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QB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2851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Rankin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query resul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329256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uggestion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or query manipulation and nav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" y="372096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isting approaches often built on the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topolog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f the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umber of links between nodes + weigh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oesn’t apply so well if the model changes due to the addition of new composi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52" name=""/>
          <p:cNvCxnSpPr>
            <a:stCxn id="353" idx="5"/>
            <a:endCxn id="354" idx="1"/>
          </p:cNvCxnSpPr>
          <p:nvPr/>
        </p:nvCxnSpPr>
        <p:spPr>
          <a:xfrm>
            <a:off x="3079800" y="2484000"/>
            <a:ext cx="2985120" cy="295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Similarity Measure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cxnSp>
        <p:nvCxnSpPr>
          <p:cNvPr id="356" name=""/>
          <p:cNvCxnSpPr>
            <a:stCxn id="353" idx="5"/>
            <a:endCxn id="354" idx="1"/>
          </p:cNvCxnSpPr>
          <p:nvPr/>
        </p:nvCxnSpPr>
        <p:spPr>
          <a:xfrm>
            <a:off x="3079800" y="2484000"/>
            <a:ext cx="2985120" cy="295668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53" idx="5"/>
            <a:endCxn id="358" idx="1"/>
          </p:cNvCxnSpPr>
          <p:nvPr/>
        </p:nvCxnSpPr>
        <p:spPr>
          <a:xfrm>
            <a:off x="3079440" y="2484360"/>
            <a:ext cx="54648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stCxn id="358" idx="5"/>
            <a:endCxn id="354" idx="1"/>
          </p:cNvCxnSpPr>
          <p:nvPr/>
        </p:nvCxnSpPr>
        <p:spPr>
          <a:xfrm>
            <a:off x="3841560" y="3551040"/>
            <a:ext cx="2223000" cy="188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58" idx="5"/>
            <a:endCxn id="354" idx="1"/>
          </p:cNvCxnSpPr>
          <p:nvPr/>
        </p:nvCxnSpPr>
        <p:spPr>
          <a:xfrm>
            <a:off x="3841560" y="3551040"/>
            <a:ext cx="2223000" cy="188964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8" idx="5"/>
            <a:endCxn id="362" idx="1"/>
          </p:cNvCxnSpPr>
          <p:nvPr/>
        </p:nvCxnSpPr>
        <p:spPr>
          <a:xfrm>
            <a:off x="3841920" y="3551400"/>
            <a:ext cx="146088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62" idx="5"/>
            <a:endCxn id="354" idx="1"/>
          </p:cNvCxnSpPr>
          <p:nvPr/>
        </p:nvCxnSpPr>
        <p:spPr>
          <a:xfrm>
            <a:off x="5517720" y="4618080"/>
            <a:ext cx="54648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819520" y="2209680"/>
            <a:ext cx="304560" cy="30492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19920" y="5410080"/>
            <a:ext cx="304560" cy="304920"/>
          </a:xfrm>
          <a:prstGeom prst="ellipse">
            <a:avLst/>
          </a:prstGeom>
          <a:solidFill>
            <a:srgbClr val="0000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257800" y="4343400"/>
            <a:ext cx="304920" cy="30492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81280" y="3276720"/>
            <a:ext cx="304920" cy="304560"/>
          </a:xfrm>
          <a:prstGeom prst="ellipse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3656520"/>
            <a:ext cx="12193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1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3656520"/>
            <a:ext cx="12193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2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8080" y="3656520"/>
            <a:ext cx="12193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3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26960" y="213264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 Narrow"/>
              </a:rPr>
              <a:t>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11880" y="569808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 Narrow"/>
              </a:rPr>
              <a:t>Royal Person in suit, with tro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89440" y="31233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 Narrow"/>
              </a:rPr>
              <a:t>Royal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564880" y="4220280"/>
            <a:ext cx="24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 Narrow"/>
              </a:rPr>
              <a:t>Royal Person with tro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79800" y="4313160"/>
            <a:ext cx="304920" cy="304920"/>
          </a:xfrm>
          <a:prstGeom prst="ellipse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53" idx="4"/>
            <a:endCxn id="371" idx="0"/>
          </p:cNvCxnSpPr>
          <p:nvPr/>
        </p:nvCxnSpPr>
        <p:spPr>
          <a:xfrm>
            <a:off x="2971440" y="2528640"/>
            <a:ext cx="261000" cy="1770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371" idx="5"/>
            <a:endCxn id="354" idx="2"/>
          </p:cNvCxnSpPr>
          <p:nvPr/>
        </p:nvCxnSpPr>
        <p:spPr>
          <a:xfrm>
            <a:off x="3340080" y="4587840"/>
            <a:ext cx="2666160" cy="975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838080" y="3656520"/>
            <a:ext cx="12193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?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36960" y="464724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 Narrow"/>
              </a:rPr>
              <a:t>Person in clot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057400" y="2362320"/>
            <a:ext cx="0" cy="3200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Similarity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vestigate a model of similarity based on “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hared featur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2590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hared Featu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embodied by a shared 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Differentiating Featu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embodied by an unshared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3962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y important “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viewpoint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82" name=""/>
          <p:cNvCxnSpPr>
            <a:endCxn id="383" idx="0"/>
          </p:cNvCxnSpPr>
          <p:nvPr/>
        </p:nvCxnSpPr>
        <p:spPr>
          <a:xfrm flipH="1">
            <a:off x="3239280" y="2909880"/>
            <a:ext cx="11880" cy="241056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383" name=""/>
          <p:cNvSpPr/>
          <p:nvPr/>
        </p:nvSpPr>
        <p:spPr>
          <a:xfrm>
            <a:off x="3087720" y="5334120"/>
            <a:ext cx="30492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681280" y="5637240"/>
            <a:ext cx="11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Royal wo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wearing ha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holding 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endCxn id="383" idx="0"/>
          </p:cNvCxnSpPr>
          <p:nvPr/>
        </p:nvCxnSpPr>
        <p:spPr>
          <a:xfrm>
            <a:off x="1128240" y="2908440"/>
            <a:ext cx="2112120" cy="241200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endCxn id="383" idx="0"/>
          </p:cNvCxnSpPr>
          <p:nvPr/>
        </p:nvCxnSpPr>
        <p:spPr>
          <a:xfrm flipH="1">
            <a:off x="3239280" y="2879640"/>
            <a:ext cx="4163400" cy="244080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387" name=""/>
          <p:cNvCxnSpPr>
            <a:endCxn id="383" idx="0"/>
          </p:cNvCxnSpPr>
          <p:nvPr/>
        </p:nvCxnSpPr>
        <p:spPr>
          <a:xfrm flipH="1">
            <a:off x="3239640" y="2269800"/>
            <a:ext cx="1605600" cy="305028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7350120" y="5334120"/>
            <a:ext cx="30492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12840" y="5637600"/>
            <a:ext cx="178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Footballer wearing s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endCxn id="388" idx="1"/>
          </p:cNvCxnSpPr>
          <p:nvPr/>
        </p:nvCxnSpPr>
        <p:spPr>
          <a:xfrm>
            <a:off x="5594400" y="3168720"/>
            <a:ext cx="1800720" cy="219600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391" name=""/>
          <p:cNvCxnSpPr>
            <a:endCxn id="388" idx="1"/>
          </p:cNvCxnSpPr>
          <p:nvPr/>
        </p:nvCxnSpPr>
        <p:spPr>
          <a:xfrm>
            <a:off x="2327040" y="2865600"/>
            <a:ext cx="5067360" cy="249876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5079960" y="5334120"/>
            <a:ext cx="30492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endCxn id="392" idx="0"/>
          </p:cNvCxnSpPr>
          <p:nvPr/>
        </p:nvCxnSpPr>
        <p:spPr>
          <a:xfrm flipH="1">
            <a:off x="5231880" y="2924280"/>
            <a:ext cx="2278800" cy="239616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endCxn id="392" idx="0"/>
          </p:cNvCxnSpPr>
          <p:nvPr/>
        </p:nvCxnSpPr>
        <p:spPr>
          <a:xfrm>
            <a:off x="2327040" y="2865240"/>
            <a:ext cx="2905560" cy="245448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endCxn id="392" idx="0"/>
          </p:cNvCxnSpPr>
          <p:nvPr/>
        </p:nvCxnSpPr>
        <p:spPr>
          <a:xfrm>
            <a:off x="4212720" y="2863800"/>
            <a:ext cx="1019880" cy="24566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396" name=""/>
          <p:cNvSpPr/>
          <p:nvPr/>
        </p:nvSpPr>
        <p:spPr>
          <a:xfrm>
            <a:off x="4577400" y="5637600"/>
            <a:ext cx="13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Footballing 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holding 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Similarity Example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8" name=""/>
          <p:cNvSpPr/>
          <p:nvPr/>
        </p:nvSpPr>
        <p:spPr>
          <a:xfrm>
            <a:off x="839160" y="22993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oy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76320" y="2589120"/>
            <a:ext cx="304920" cy="30492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6520" y="2315160"/>
            <a:ext cx="178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 holding Tro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358040" y="2604960"/>
            <a:ext cx="304920" cy="30492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99880" y="257400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 wearing S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4120" y="2894040"/>
            <a:ext cx="304560" cy="30492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68560" y="2299320"/>
            <a:ext cx="47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52800" y="2589120"/>
            <a:ext cx="304920" cy="30492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946960" y="230076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o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98880" y="2590920"/>
            <a:ext cx="30456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67120" y="5637240"/>
            <a:ext cx="107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oyal 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earing sui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olding 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52680" y="5334120"/>
            <a:ext cx="304560" cy="3045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399" idx="4"/>
            <a:endCxn id="409" idx="0"/>
          </p:cNvCxnSpPr>
          <p:nvPr/>
        </p:nvCxnSpPr>
        <p:spPr>
          <a:xfrm>
            <a:off x="1128240" y="2908440"/>
            <a:ext cx="577080" cy="24120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11" name=""/>
          <p:cNvCxnSpPr>
            <a:stCxn id="405" idx="3"/>
            <a:endCxn id="409" idx="0"/>
          </p:cNvCxnSpPr>
          <p:nvPr/>
        </p:nvCxnSpPr>
        <p:spPr>
          <a:xfrm flipH="1">
            <a:off x="1704600" y="2863800"/>
            <a:ext cx="2293200" cy="245664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403" idx="3"/>
            <a:endCxn id="409" idx="0"/>
          </p:cNvCxnSpPr>
          <p:nvPr/>
        </p:nvCxnSpPr>
        <p:spPr>
          <a:xfrm flipH="1">
            <a:off x="1704600" y="3168360"/>
            <a:ext cx="3674160" cy="215172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01" idx="3"/>
            <a:endCxn id="409" idx="0"/>
          </p:cNvCxnSpPr>
          <p:nvPr/>
        </p:nvCxnSpPr>
        <p:spPr>
          <a:xfrm flipH="1">
            <a:off x="1704240" y="2879640"/>
            <a:ext cx="5698440" cy="24408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414" name=""/>
          <p:cNvSpPr/>
          <p:nvPr/>
        </p:nvSpPr>
        <p:spPr>
          <a:xfrm>
            <a:off x="1776600" y="2300760"/>
            <a:ext cx="8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ootba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066760" y="2590920"/>
            <a:ext cx="30492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37760" y="1689480"/>
            <a:ext cx="18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 wearing Clot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00600" y="1995480"/>
            <a:ext cx="304920" cy="304920"/>
          </a:xfrm>
          <a:prstGeom prst="ellipse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" name=""/>
          <p:cNvCxnSpPr>
            <a:stCxn id="417" idx="5"/>
            <a:endCxn id="403" idx="0"/>
          </p:cNvCxnSpPr>
          <p:nvPr/>
        </p:nvCxnSpPr>
        <p:spPr>
          <a:xfrm>
            <a:off x="5060880" y="2269800"/>
            <a:ext cx="42624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9" name=""/>
          <p:cNvCxnSpPr>
            <a:endCxn id="420" idx="0"/>
          </p:cNvCxnSpPr>
          <p:nvPr/>
        </p:nvCxnSpPr>
        <p:spPr>
          <a:xfrm flipH="1">
            <a:off x="5231880" y="2924280"/>
            <a:ext cx="2278800" cy="239616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421" name=""/>
          <p:cNvCxnSpPr>
            <a:endCxn id="420" idx="0"/>
          </p:cNvCxnSpPr>
          <p:nvPr/>
        </p:nvCxnSpPr>
        <p:spPr>
          <a:xfrm>
            <a:off x="2327040" y="2865240"/>
            <a:ext cx="2905560" cy="245448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endCxn id="420" idx="0"/>
          </p:cNvCxnSpPr>
          <p:nvPr/>
        </p:nvCxnSpPr>
        <p:spPr>
          <a:xfrm>
            <a:off x="4212720" y="2863800"/>
            <a:ext cx="1019880" cy="24566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423" name=""/>
          <p:cNvCxnSpPr>
            <a:endCxn id="424" idx="1"/>
          </p:cNvCxnSpPr>
          <p:nvPr/>
        </p:nvCxnSpPr>
        <p:spPr>
          <a:xfrm>
            <a:off x="5594400" y="3168720"/>
            <a:ext cx="1800720" cy="219600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425" name=""/>
          <p:cNvCxnSpPr>
            <a:endCxn id="424" idx="1"/>
          </p:cNvCxnSpPr>
          <p:nvPr/>
        </p:nvCxnSpPr>
        <p:spPr>
          <a:xfrm>
            <a:off x="2327040" y="2865600"/>
            <a:ext cx="5067360" cy="249876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5079960" y="5334120"/>
            <a:ext cx="30492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Similarity Example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27" name=""/>
          <p:cNvSpPr/>
          <p:nvPr/>
        </p:nvSpPr>
        <p:spPr>
          <a:xfrm>
            <a:off x="839160" y="22993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oy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76320" y="2589120"/>
            <a:ext cx="304920" cy="30492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626520" y="2315160"/>
            <a:ext cx="178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 holding Tro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58040" y="2604960"/>
            <a:ext cx="304920" cy="30492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99880" y="257400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 wearing S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34120" y="2894040"/>
            <a:ext cx="304560" cy="304920"/>
          </a:xfrm>
          <a:prstGeom prst="ellipse">
            <a:avLst/>
          </a:prstGeom>
          <a:solidFill>
            <a:srgbClr val="ff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68560" y="2299320"/>
            <a:ext cx="47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52800" y="2589120"/>
            <a:ext cx="304920" cy="304920"/>
          </a:xfrm>
          <a:prstGeom prst="ellipse">
            <a:avLst/>
          </a:prstGeom>
          <a:solidFill>
            <a:srgbClr val="ff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46960" y="230076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o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98880" y="2590920"/>
            <a:ext cx="304560" cy="3045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67120" y="5637240"/>
            <a:ext cx="107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oyal 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earing sui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olding 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52680" y="5334120"/>
            <a:ext cx="304560" cy="3045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28" idx="4"/>
            <a:endCxn id="438" idx="0"/>
          </p:cNvCxnSpPr>
          <p:nvPr/>
        </p:nvCxnSpPr>
        <p:spPr>
          <a:xfrm>
            <a:off x="1128240" y="2908440"/>
            <a:ext cx="577080" cy="24120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34" idx="3"/>
            <a:endCxn id="438" idx="0"/>
          </p:cNvCxnSpPr>
          <p:nvPr/>
        </p:nvCxnSpPr>
        <p:spPr>
          <a:xfrm flipH="1">
            <a:off x="1704600" y="2863800"/>
            <a:ext cx="2293200" cy="245664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41" name=""/>
          <p:cNvCxnSpPr>
            <a:stCxn id="432" idx="3"/>
            <a:endCxn id="438" idx="0"/>
          </p:cNvCxnSpPr>
          <p:nvPr/>
        </p:nvCxnSpPr>
        <p:spPr>
          <a:xfrm flipH="1">
            <a:off x="1704600" y="3168360"/>
            <a:ext cx="3674160" cy="215172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30" idx="3"/>
            <a:endCxn id="438" idx="0"/>
          </p:cNvCxnSpPr>
          <p:nvPr/>
        </p:nvCxnSpPr>
        <p:spPr>
          <a:xfrm flipH="1">
            <a:off x="1704240" y="2879640"/>
            <a:ext cx="5698440" cy="24408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443" name=""/>
          <p:cNvSpPr/>
          <p:nvPr/>
        </p:nvSpPr>
        <p:spPr>
          <a:xfrm>
            <a:off x="1776600" y="2300760"/>
            <a:ext cx="8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ootba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66760" y="2590920"/>
            <a:ext cx="30492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037760" y="1689480"/>
            <a:ext cx="18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 wearing Clot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800600" y="1995480"/>
            <a:ext cx="304920" cy="304920"/>
          </a:xfrm>
          <a:prstGeom prst="ellipse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"/>
          <p:cNvCxnSpPr>
            <a:stCxn id="446" idx="5"/>
            <a:endCxn id="432" idx="0"/>
          </p:cNvCxnSpPr>
          <p:nvPr/>
        </p:nvCxnSpPr>
        <p:spPr>
          <a:xfrm>
            <a:off x="5060880" y="2269800"/>
            <a:ext cx="42624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36" idx="4"/>
            <a:endCxn id="449" idx="0"/>
          </p:cNvCxnSpPr>
          <p:nvPr/>
        </p:nvCxnSpPr>
        <p:spPr>
          <a:xfrm flipH="1">
            <a:off x="3239280" y="2909880"/>
            <a:ext cx="11880" cy="2410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9" name=""/>
          <p:cNvSpPr/>
          <p:nvPr/>
        </p:nvSpPr>
        <p:spPr>
          <a:xfrm>
            <a:off x="3087720" y="5334120"/>
            <a:ext cx="304920" cy="30456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681280" y="5637240"/>
            <a:ext cx="11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oyal wo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earing ha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olding 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28" idx="4"/>
            <a:endCxn id="449" idx="0"/>
          </p:cNvCxnSpPr>
          <p:nvPr/>
        </p:nvCxnSpPr>
        <p:spPr>
          <a:xfrm>
            <a:off x="1128240" y="2908440"/>
            <a:ext cx="2112120" cy="2412000"/>
          </a:xfrm>
          <a:prstGeom prst="straightConnector1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stCxn id="430" idx="3"/>
            <a:endCxn id="449" idx="0"/>
          </p:cNvCxnSpPr>
          <p:nvPr/>
        </p:nvCxnSpPr>
        <p:spPr>
          <a:xfrm flipH="1">
            <a:off x="3239280" y="2879640"/>
            <a:ext cx="4163400" cy="2440800"/>
          </a:xfrm>
          <a:prstGeom prst="straightConnector1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6" idx="3"/>
            <a:endCxn id="449" idx="0"/>
          </p:cNvCxnSpPr>
          <p:nvPr/>
        </p:nvCxnSpPr>
        <p:spPr>
          <a:xfrm flipH="1">
            <a:off x="3239640" y="2269800"/>
            <a:ext cx="1605600" cy="3050280"/>
          </a:xfrm>
          <a:prstGeom prst="straightConnector1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4577400" y="5637600"/>
            <a:ext cx="13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Footballing 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holding 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50120" y="5334120"/>
            <a:ext cx="30492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612840" y="5637600"/>
            <a:ext cx="178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Footballer wearing s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6" name=""/>
          <p:cNvCxnSpPr>
            <a:endCxn id="457" idx="0"/>
          </p:cNvCxnSpPr>
          <p:nvPr/>
        </p:nvCxnSpPr>
        <p:spPr>
          <a:xfrm flipH="1">
            <a:off x="3239280" y="2879640"/>
            <a:ext cx="4163400" cy="244080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endCxn id="459" idx="1"/>
          </p:cNvCxnSpPr>
          <p:nvPr/>
        </p:nvCxnSpPr>
        <p:spPr>
          <a:xfrm>
            <a:off x="5594400" y="3168720"/>
            <a:ext cx="1800720" cy="219600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endCxn id="459" idx="1"/>
          </p:cNvCxnSpPr>
          <p:nvPr/>
        </p:nvCxnSpPr>
        <p:spPr>
          <a:xfrm>
            <a:off x="2327040" y="2865600"/>
            <a:ext cx="5067360" cy="249876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endCxn id="457" idx="0"/>
          </p:cNvCxnSpPr>
          <p:nvPr/>
        </p:nvCxnSpPr>
        <p:spPr>
          <a:xfrm flipH="1">
            <a:off x="3239280" y="2909880"/>
            <a:ext cx="11880" cy="241056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457" name=""/>
          <p:cNvSpPr/>
          <p:nvPr/>
        </p:nvSpPr>
        <p:spPr>
          <a:xfrm>
            <a:off x="3087720" y="5334120"/>
            <a:ext cx="30492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81280" y="5637240"/>
            <a:ext cx="11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Royal wo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wearing ha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holding 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endCxn id="457" idx="0"/>
          </p:cNvCxnSpPr>
          <p:nvPr/>
        </p:nvCxnSpPr>
        <p:spPr>
          <a:xfrm>
            <a:off x="1128240" y="2908440"/>
            <a:ext cx="2112120" cy="241200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endCxn id="457" idx="0"/>
          </p:cNvCxnSpPr>
          <p:nvPr/>
        </p:nvCxnSpPr>
        <p:spPr>
          <a:xfrm flipH="1">
            <a:off x="3239640" y="2269800"/>
            <a:ext cx="1605600" cy="305028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Similarity Example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839160" y="22993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oy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76320" y="2589120"/>
            <a:ext cx="304920" cy="304920"/>
          </a:xfrm>
          <a:prstGeom prst="ellipse">
            <a:avLst/>
          </a:prstGeom>
          <a:solidFill>
            <a:srgbClr val="ff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26520" y="2315160"/>
            <a:ext cx="178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 holding Tro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358040" y="2604960"/>
            <a:ext cx="304920" cy="30492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799880" y="257400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 wearing S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34120" y="2894040"/>
            <a:ext cx="304560" cy="304920"/>
          </a:xfrm>
          <a:prstGeom prst="ellipse">
            <a:avLst/>
          </a:prstGeom>
          <a:solidFill>
            <a:srgbClr val="ff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68560" y="2299320"/>
            <a:ext cx="47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52800" y="2589120"/>
            <a:ext cx="304920" cy="30492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46960" y="230076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o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98880" y="2590920"/>
            <a:ext cx="30456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167120" y="5637240"/>
            <a:ext cx="107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oyal 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earing sui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olding 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52680" y="5334120"/>
            <a:ext cx="304560" cy="3045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67" idx="4"/>
            <a:endCxn id="477" idx="0"/>
          </p:cNvCxnSpPr>
          <p:nvPr/>
        </p:nvCxnSpPr>
        <p:spPr>
          <a:xfrm>
            <a:off x="1128240" y="2908440"/>
            <a:ext cx="577080" cy="24120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79" name=""/>
          <p:cNvCxnSpPr>
            <a:stCxn id="473" idx="3"/>
            <a:endCxn id="477" idx="0"/>
          </p:cNvCxnSpPr>
          <p:nvPr/>
        </p:nvCxnSpPr>
        <p:spPr>
          <a:xfrm flipH="1">
            <a:off x="1704600" y="2863800"/>
            <a:ext cx="2293200" cy="245664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1" idx="3"/>
            <a:endCxn id="477" idx="0"/>
          </p:cNvCxnSpPr>
          <p:nvPr/>
        </p:nvCxnSpPr>
        <p:spPr>
          <a:xfrm flipH="1">
            <a:off x="1704600" y="3168360"/>
            <a:ext cx="3674160" cy="215172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69" idx="3"/>
            <a:endCxn id="477" idx="0"/>
          </p:cNvCxnSpPr>
          <p:nvPr/>
        </p:nvCxnSpPr>
        <p:spPr>
          <a:xfrm flipH="1">
            <a:off x="1704240" y="2879640"/>
            <a:ext cx="5698440" cy="24408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482" name=""/>
          <p:cNvSpPr/>
          <p:nvPr/>
        </p:nvSpPr>
        <p:spPr>
          <a:xfrm>
            <a:off x="1776600" y="2300760"/>
            <a:ext cx="8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ootba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66760" y="2590920"/>
            <a:ext cx="304920" cy="3045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037760" y="1689480"/>
            <a:ext cx="18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 wearing Clot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800600" y="1995480"/>
            <a:ext cx="304920" cy="304920"/>
          </a:xfrm>
          <a:prstGeom prst="ellipse">
            <a:avLst/>
          </a:prstGeom>
          <a:solidFill>
            <a:srgbClr val="ff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5"/>
            <a:endCxn id="471" idx="0"/>
          </p:cNvCxnSpPr>
          <p:nvPr/>
        </p:nvCxnSpPr>
        <p:spPr>
          <a:xfrm>
            <a:off x="5060880" y="2269800"/>
            <a:ext cx="42624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5079960" y="5334120"/>
            <a:ext cx="304920" cy="30456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577400" y="5637600"/>
            <a:ext cx="13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ootballing 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olding 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69" idx="4"/>
            <a:endCxn id="487" idx="0"/>
          </p:cNvCxnSpPr>
          <p:nvPr/>
        </p:nvCxnSpPr>
        <p:spPr>
          <a:xfrm flipH="1">
            <a:off x="5231880" y="2924280"/>
            <a:ext cx="2278800" cy="2396160"/>
          </a:xfrm>
          <a:prstGeom prst="straightConnector1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490" name=""/>
          <p:cNvCxnSpPr>
            <a:stCxn id="483" idx="5"/>
            <a:endCxn id="487" idx="0"/>
          </p:cNvCxnSpPr>
          <p:nvPr/>
        </p:nvCxnSpPr>
        <p:spPr>
          <a:xfrm>
            <a:off x="2327040" y="2865240"/>
            <a:ext cx="2905560" cy="2454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91" name=""/>
          <p:cNvCxnSpPr>
            <a:stCxn id="473" idx="5"/>
            <a:endCxn id="487" idx="0"/>
          </p:cNvCxnSpPr>
          <p:nvPr/>
        </p:nvCxnSpPr>
        <p:spPr>
          <a:xfrm>
            <a:off x="4212720" y="2863800"/>
            <a:ext cx="1019880" cy="2456640"/>
          </a:xfrm>
          <a:prstGeom prst="straightConnector1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7350120" y="5334120"/>
            <a:ext cx="30492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612840" y="5637600"/>
            <a:ext cx="178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Footballer wearing s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3" name=""/>
          <p:cNvCxnSpPr>
            <a:endCxn id="494" idx="0"/>
          </p:cNvCxnSpPr>
          <p:nvPr/>
        </p:nvCxnSpPr>
        <p:spPr>
          <a:xfrm flipH="1">
            <a:off x="5231880" y="2924280"/>
            <a:ext cx="2278800" cy="239616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495" name=""/>
          <p:cNvCxnSpPr>
            <a:endCxn id="494" idx="0"/>
          </p:cNvCxnSpPr>
          <p:nvPr/>
        </p:nvCxnSpPr>
        <p:spPr>
          <a:xfrm>
            <a:off x="2327040" y="2865240"/>
            <a:ext cx="2905560" cy="245448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endCxn id="494" idx="0"/>
          </p:cNvCxnSpPr>
          <p:nvPr/>
        </p:nvCxnSpPr>
        <p:spPr>
          <a:xfrm>
            <a:off x="4212720" y="2863800"/>
            <a:ext cx="1019880" cy="24566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494" name=""/>
          <p:cNvSpPr/>
          <p:nvPr/>
        </p:nvSpPr>
        <p:spPr>
          <a:xfrm>
            <a:off x="5079960" y="5334120"/>
            <a:ext cx="30492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77400" y="5637600"/>
            <a:ext cx="13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Footballing 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holding 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8" name=""/>
          <p:cNvCxnSpPr>
            <a:endCxn id="499" idx="0"/>
          </p:cNvCxnSpPr>
          <p:nvPr/>
        </p:nvCxnSpPr>
        <p:spPr>
          <a:xfrm flipH="1">
            <a:off x="3239280" y="2909880"/>
            <a:ext cx="11880" cy="241056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3087720" y="5334120"/>
            <a:ext cx="30492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81280" y="5637240"/>
            <a:ext cx="11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Royal wo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wearing ha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holding 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endCxn id="499" idx="0"/>
          </p:cNvCxnSpPr>
          <p:nvPr/>
        </p:nvCxnSpPr>
        <p:spPr>
          <a:xfrm>
            <a:off x="1128240" y="2908440"/>
            <a:ext cx="2112120" cy="241200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502" name=""/>
          <p:cNvCxnSpPr>
            <a:endCxn id="499" idx="0"/>
          </p:cNvCxnSpPr>
          <p:nvPr/>
        </p:nvCxnSpPr>
        <p:spPr>
          <a:xfrm flipH="1">
            <a:off x="3239280" y="2879640"/>
            <a:ext cx="4163400" cy="244080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503" name=""/>
          <p:cNvCxnSpPr>
            <a:endCxn id="499" idx="0"/>
          </p:cNvCxnSpPr>
          <p:nvPr/>
        </p:nvCxnSpPr>
        <p:spPr>
          <a:xfrm flipH="1">
            <a:off x="3239640" y="2269800"/>
            <a:ext cx="1605600" cy="305028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Similarity Example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05" name=""/>
          <p:cNvSpPr/>
          <p:nvPr/>
        </p:nvSpPr>
        <p:spPr>
          <a:xfrm>
            <a:off x="839160" y="22993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oy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976320" y="2589120"/>
            <a:ext cx="304920" cy="304920"/>
          </a:xfrm>
          <a:prstGeom prst="ellipse">
            <a:avLst/>
          </a:prstGeom>
          <a:solidFill>
            <a:srgbClr val="ff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26520" y="2315160"/>
            <a:ext cx="178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 holding Tro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358040" y="2604960"/>
            <a:ext cx="304920" cy="304920"/>
          </a:xfrm>
          <a:prstGeom prst="ellipse">
            <a:avLst/>
          </a:prstGeom>
          <a:solidFill>
            <a:srgbClr val="ff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799880" y="257400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 wearing S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4120" y="2894040"/>
            <a:ext cx="304560" cy="30492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68560" y="2299320"/>
            <a:ext cx="47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952800" y="2589120"/>
            <a:ext cx="304920" cy="304920"/>
          </a:xfrm>
          <a:prstGeom prst="ellipse">
            <a:avLst/>
          </a:prstGeom>
          <a:solidFill>
            <a:srgbClr val="ff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946960" y="230076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o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98880" y="2590920"/>
            <a:ext cx="304560" cy="3045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167120" y="5637240"/>
            <a:ext cx="107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oyal 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earing sui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olding 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52680" y="5334120"/>
            <a:ext cx="304560" cy="3045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7" name=""/>
          <p:cNvCxnSpPr>
            <a:stCxn id="506" idx="4"/>
            <a:endCxn id="516" idx="0"/>
          </p:cNvCxnSpPr>
          <p:nvPr/>
        </p:nvCxnSpPr>
        <p:spPr>
          <a:xfrm>
            <a:off x="1128240" y="2908440"/>
            <a:ext cx="577080" cy="24120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18" name=""/>
          <p:cNvCxnSpPr>
            <a:stCxn id="512" idx="3"/>
            <a:endCxn id="516" idx="0"/>
          </p:cNvCxnSpPr>
          <p:nvPr/>
        </p:nvCxnSpPr>
        <p:spPr>
          <a:xfrm flipH="1">
            <a:off x="1704600" y="2863800"/>
            <a:ext cx="2293200" cy="245664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19" name=""/>
          <p:cNvCxnSpPr>
            <a:stCxn id="510" idx="3"/>
            <a:endCxn id="516" idx="0"/>
          </p:cNvCxnSpPr>
          <p:nvPr/>
        </p:nvCxnSpPr>
        <p:spPr>
          <a:xfrm flipH="1">
            <a:off x="1704600" y="3168360"/>
            <a:ext cx="3674160" cy="215172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20" name=""/>
          <p:cNvCxnSpPr>
            <a:stCxn id="508" idx="3"/>
            <a:endCxn id="516" idx="0"/>
          </p:cNvCxnSpPr>
          <p:nvPr/>
        </p:nvCxnSpPr>
        <p:spPr>
          <a:xfrm flipH="1">
            <a:off x="1704240" y="2879640"/>
            <a:ext cx="5698440" cy="24408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21" name=""/>
          <p:cNvSpPr/>
          <p:nvPr/>
        </p:nvSpPr>
        <p:spPr>
          <a:xfrm>
            <a:off x="1776600" y="2300760"/>
            <a:ext cx="8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ootba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066760" y="2590920"/>
            <a:ext cx="304920" cy="3045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50120" y="5334120"/>
            <a:ext cx="304920" cy="30456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12840" y="5637600"/>
            <a:ext cx="178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ootballer wearing s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"/>
          <p:cNvCxnSpPr>
            <a:stCxn id="510" idx="5"/>
            <a:endCxn id="523" idx="1"/>
          </p:cNvCxnSpPr>
          <p:nvPr/>
        </p:nvCxnSpPr>
        <p:spPr>
          <a:xfrm>
            <a:off x="5594400" y="3168720"/>
            <a:ext cx="1800720" cy="2196000"/>
          </a:xfrm>
          <a:prstGeom prst="straightConnector1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22" idx="5"/>
            <a:endCxn id="523" idx="1"/>
          </p:cNvCxnSpPr>
          <p:nvPr/>
        </p:nvCxnSpPr>
        <p:spPr>
          <a:xfrm>
            <a:off x="2327040" y="2865600"/>
            <a:ext cx="5067360" cy="2498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27" name=""/>
          <p:cNvSpPr/>
          <p:nvPr/>
        </p:nvSpPr>
        <p:spPr>
          <a:xfrm>
            <a:off x="4037760" y="1689480"/>
            <a:ext cx="18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 wearing Clot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1995480"/>
            <a:ext cx="304920" cy="304920"/>
          </a:xfrm>
          <a:prstGeom prst="ellipse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28" idx="5"/>
            <a:endCxn id="510" idx="0"/>
          </p:cNvCxnSpPr>
          <p:nvPr/>
        </p:nvCxnSpPr>
        <p:spPr>
          <a:xfrm>
            <a:off x="5060880" y="2269800"/>
            <a:ext cx="42624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629440" y="2277000"/>
            <a:ext cx="48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 Royal man wearing suit, holding c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29440" y="319284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 Royal woman wearing hat, holding c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627280" y="411048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3. Footballing man holding c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27640" y="502812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4. Footballer wearing s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Similarity Example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35" name=""/>
          <p:cNvSpPr/>
          <p:nvPr/>
        </p:nvSpPr>
        <p:spPr>
          <a:xfrm rot="5400000">
            <a:off x="373320" y="3539160"/>
            <a:ext cx="3208320" cy="685800"/>
          </a:xfrm>
          <a:prstGeom prst="rightArrow">
            <a:avLst>
              <a:gd name="adj1" fmla="val 50000"/>
              <a:gd name="adj2" fmla="val 116955"/>
            </a:avLst>
          </a:prstGeom>
          <a:gradFill rotWithShape="0">
            <a:gsLst>
              <a:gs pos="0">
                <a:srgbClr val="66cc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Less Simi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A Problem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dexing Picture Collec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8195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for Flexible Quer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pecialization/Generalization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Hierarchi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Similarity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Brow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Similarity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mising results from early investig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"/>
          <p:cNvSpPr/>
          <p:nvPr/>
        </p:nvSpPr>
        <p:spPr>
          <a:xfrm>
            <a:off x="685800" y="2422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ill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collapsin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everal dimensions down into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5800" y="2857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quires identification of the “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viewpoint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-trivial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366084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y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them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hat run across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f. faceted classif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446724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we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infe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he views based on user a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Negative Point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els are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har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o build and require real effort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2440" indent="-27972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 existing methodologies, e.g. E.R. models and convert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2440" indent="-27972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vert classifications as a bootstrapping exercis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2440" indent="-27972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eriments with AAT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352116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opic of real interest in the logic worl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432756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mitations of D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Conclusion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Querie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19840" indent="-19980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ed through the hierarchical structu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2776680"/>
            <a:ext cx="77724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complex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erms built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on the 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ed by composition of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5800" y="4776840"/>
            <a:ext cx="7772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for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buildin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maintainin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3954600"/>
            <a:ext cx="7772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Browsab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Navigab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Query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964120" y="1984320"/>
            <a:ext cx="199872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Bridging the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963040" y="3248280"/>
            <a:ext cx="14990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Spontane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77800" y="4146840"/>
            <a:ext cx="10267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Luc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Future Work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ing terminological support in an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open hypermedia syste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grating a terminology agent with the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Distributed Links Servi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279072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k on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Classifica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Thesa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L could be used to supply more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coheren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consisten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lating notions of vocabulary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coordin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nd DL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arching needs better semantics in the ter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432756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3C RDF/XML interest in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eS as a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nameserver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(cf. XML namespaces providing contex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85800" y="512136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rface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an Bechhofer, Carole Go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formation Management Grou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partment of Computer Science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iversity of Manchester, U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seanb@cs.man.ac.u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carole@cs.man.ac.u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Narrow"/>
              </a:rPr>
              <a:t>http://potato.cs.man.ac.uk/starc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Metadata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vels of content inform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654360" y="3917880"/>
            <a:ext cx="2275920" cy="2101680"/>
            <a:chOff x="3654360" y="3917880"/>
            <a:chExt cx="2275920" cy="2101680"/>
          </a:xfrm>
        </p:grpSpPr>
        <p:grpSp>
          <p:nvGrpSpPr>
            <p:cNvPr id="66" name=""/>
            <p:cNvGrpSpPr/>
            <p:nvPr/>
          </p:nvGrpSpPr>
          <p:grpSpPr>
            <a:xfrm>
              <a:off x="5109480" y="4419360"/>
              <a:ext cx="820800" cy="1600200"/>
              <a:chOff x="5109480" y="4419360"/>
              <a:chExt cx="820800" cy="1600200"/>
            </a:xfrm>
          </p:grpSpPr>
          <p:sp>
            <p:nvSpPr>
              <p:cNvPr id="67" name=""/>
              <p:cNvSpPr/>
              <p:nvPr/>
            </p:nvSpPr>
            <p:spPr>
              <a:xfrm>
                <a:off x="5178600" y="4419360"/>
                <a:ext cx="0" cy="16002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09480" y="4984560"/>
                <a:ext cx="820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Heigh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3654360" y="3917880"/>
              <a:ext cx="1295640" cy="337320"/>
              <a:chOff x="3654360" y="3917880"/>
              <a:chExt cx="1295640" cy="337320"/>
            </a:xfrm>
          </p:grpSpPr>
          <p:sp>
            <p:nvSpPr>
              <p:cNvPr id="70" name=""/>
              <p:cNvSpPr/>
              <p:nvPr/>
            </p:nvSpPr>
            <p:spPr>
              <a:xfrm>
                <a:off x="3654360" y="4190760"/>
                <a:ext cx="12956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948840" y="3917880"/>
                <a:ext cx="74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Wid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4876560" y="6083280"/>
            <a:ext cx="1375200" cy="337320"/>
            <a:chOff x="4876560" y="6083280"/>
            <a:chExt cx="1375200" cy="337320"/>
          </a:xfrm>
        </p:grpSpPr>
        <p:sp>
          <p:nvSpPr>
            <p:cNvPr id="73" name=""/>
            <p:cNvSpPr/>
            <p:nvPr/>
          </p:nvSpPr>
          <p:spPr>
            <a:xfrm>
              <a:off x="5667120" y="6083280"/>
              <a:ext cx="58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73" idx="1"/>
              <a:endCxn id="75" idx="3"/>
            </p:cNvCxnSpPr>
            <p:nvPr/>
          </p:nvCxnSpPr>
          <p:spPr>
            <a:xfrm flipH="1">
              <a:off x="4876560" y="6264000"/>
              <a:ext cx="762480" cy="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6" name=""/>
          <p:cNvGrpSpPr/>
          <p:nvPr/>
        </p:nvGrpSpPr>
        <p:grpSpPr>
          <a:xfrm>
            <a:off x="3578400" y="4343400"/>
            <a:ext cx="1447200" cy="2075040"/>
            <a:chOff x="3578400" y="4343400"/>
            <a:chExt cx="1447200" cy="2075040"/>
          </a:xfrm>
        </p:grpSpPr>
        <p:sp>
          <p:nvSpPr>
            <p:cNvPr id="75" name=""/>
            <p:cNvSpPr/>
            <p:nvPr/>
          </p:nvSpPr>
          <p:spPr>
            <a:xfrm>
              <a:off x="3733920" y="6172200"/>
              <a:ext cx="1143000" cy="246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mbient No.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3578400" y="4343400"/>
              <a:ext cx="1447200" cy="1752120"/>
              <a:chOff x="3578400" y="4343400"/>
              <a:chExt cx="1447200" cy="1752120"/>
            </a:xfrm>
          </p:grpSpPr>
          <p:sp>
            <p:nvSpPr>
              <p:cNvPr id="78" name=""/>
              <p:cNvSpPr/>
              <p:nvPr/>
            </p:nvSpPr>
            <p:spPr>
              <a:xfrm>
                <a:off x="3654360" y="4419360"/>
                <a:ext cx="1295640" cy="1600200"/>
              </a:xfrm>
              <a:prstGeom prst="rect">
                <a:avLst/>
              </a:prstGeom>
              <a:solidFill>
                <a:srgbClr val="ccccff"/>
              </a:solidFill>
              <a:ln w="763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578400" y="4419360"/>
                <a:ext cx="152280" cy="1600200"/>
              </a:xfrm>
              <a:custGeom>
                <a:avLst/>
                <a:gdLst>
                  <a:gd name="textAreaLeft" fmla="*/ 97200 w 152280"/>
                  <a:gd name="textAreaRight" fmla="*/ 152640 w 15228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4872960" y="4419360"/>
                <a:ext cx="152280" cy="1600200"/>
              </a:xfrm>
              <a:custGeom>
                <a:avLst/>
                <a:gdLst>
                  <a:gd name="textAreaLeft" fmla="*/ 96840 w 152280"/>
                  <a:gd name="textAreaRight" fmla="*/ 152280 w 15228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16200000">
                <a:off x="4224960" y="3771720"/>
                <a:ext cx="152280" cy="1295640"/>
              </a:xfrm>
              <a:custGeom>
                <a:avLst/>
                <a:gdLst>
                  <a:gd name="textAreaLeft" fmla="*/ 96840 w 152280"/>
                  <a:gd name="textAreaRight" fmla="*/ 152280 w 152280"/>
                  <a:gd name="textAreaTop" fmla="*/ 33480 h 1295640"/>
                  <a:gd name="textAreaBottom" fmla="*/ 1262160 h 129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flipV="1" rot="5400000">
                <a:off x="4224960" y="5371200"/>
                <a:ext cx="152280" cy="1295640"/>
              </a:xfrm>
              <a:custGeom>
                <a:avLst/>
                <a:gdLst>
                  <a:gd name="textAreaLeft" fmla="*/ 96840 w 152280"/>
                  <a:gd name="textAreaRight" fmla="*/ 152280 w 152280"/>
                  <a:gd name="textAreaTop" fmla="*/ 33480 h 1295640"/>
                  <a:gd name="textAreaBottom" fmla="*/ 1262160 h 129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587840" y="5686200"/>
                <a:ext cx="285840" cy="257400"/>
              </a:xfrm>
              <a:custGeom>
                <a:avLst/>
                <a:gdLst/>
                <a:ahLst/>
                <a:rect l="l" t="t" r="r" b="b"/>
                <a:pathLst>
                  <a:path w="1272" h="1148">
                    <a:moveTo>
                      <a:pt x="324" y="258"/>
                    </a:moveTo>
                    <a:cubicBezTo>
                      <a:pt x="333" y="166"/>
                      <a:pt x="354" y="28"/>
                      <a:pt x="240" y="0"/>
                    </a:cubicBezTo>
                    <a:cubicBezTo>
                      <a:pt x="139" y="7"/>
                      <a:pt x="133" y="5"/>
                      <a:pt x="66" y="72"/>
                    </a:cubicBezTo>
                    <a:cubicBezTo>
                      <a:pt x="56" y="100"/>
                      <a:pt x="44" y="127"/>
                      <a:pt x="36" y="156"/>
                    </a:cubicBezTo>
                    <a:cubicBezTo>
                      <a:pt x="21" y="211"/>
                      <a:pt x="0" y="324"/>
                      <a:pt x="0" y="324"/>
                    </a:cubicBezTo>
                    <a:cubicBezTo>
                      <a:pt x="7" y="393"/>
                      <a:pt x="28" y="452"/>
                      <a:pt x="96" y="486"/>
                    </a:cubicBezTo>
                    <a:cubicBezTo>
                      <a:pt x="123" y="499"/>
                      <a:pt x="154" y="501"/>
                      <a:pt x="180" y="516"/>
                    </a:cubicBezTo>
                    <a:cubicBezTo>
                      <a:pt x="202" y="528"/>
                      <a:pt x="388" y="662"/>
                      <a:pt x="408" y="684"/>
                    </a:cubicBezTo>
                    <a:cubicBezTo>
                      <a:pt x="471" y="755"/>
                      <a:pt x="576" y="912"/>
                      <a:pt x="576" y="912"/>
                    </a:cubicBezTo>
                    <a:cubicBezTo>
                      <a:pt x="621" y="1054"/>
                      <a:pt x="609" y="999"/>
                      <a:pt x="624" y="1074"/>
                    </a:cubicBezTo>
                    <a:cubicBezTo>
                      <a:pt x="620" y="1086"/>
                      <a:pt x="622" y="1102"/>
                      <a:pt x="612" y="1110"/>
                    </a:cubicBezTo>
                    <a:cubicBezTo>
                      <a:pt x="597" y="1122"/>
                      <a:pt x="558" y="1128"/>
                      <a:pt x="558" y="1128"/>
                    </a:cubicBezTo>
                    <a:cubicBezTo>
                      <a:pt x="410" y="1113"/>
                      <a:pt x="258" y="1148"/>
                      <a:pt x="162" y="1014"/>
                    </a:cubicBezTo>
                    <a:cubicBezTo>
                      <a:pt x="132" y="972"/>
                      <a:pt x="136" y="913"/>
                      <a:pt x="108" y="870"/>
                    </a:cubicBezTo>
                    <a:cubicBezTo>
                      <a:pt x="92" y="806"/>
                      <a:pt x="121" y="765"/>
                      <a:pt x="174" y="738"/>
                    </a:cubicBezTo>
                    <a:cubicBezTo>
                      <a:pt x="222" y="744"/>
                      <a:pt x="271" y="747"/>
                      <a:pt x="318" y="756"/>
                    </a:cubicBezTo>
                    <a:cubicBezTo>
                      <a:pt x="460" y="784"/>
                      <a:pt x="252" y="765"/>
                      <a:pt x="390" y="786"/>
                    </a:cubicBezTo>
                    <a:cubicBezTo>
                      <a:pt x="495" y="802"/>
                      <a:pt x="602" y="795"/>
                      <a:pt x="708" y="798"/>
                    </a:cubicBezTo>
                    <a:cubicBezTo>
                      <a:pt x="749" y="784"/>
                      <a:pt x="752" y="697"/>
                      <a:pt x="702" y="714"/>
                    </a:cubicBezTo>
                    <a:cubicBezTo>
                      <a:pt x="653" y="751"/>
                      <a:pt x="630" y="792"/>
                      <a:pt x="618" y="852"/>
                    </a:cubicBezTo>
                    <a:cubicBezTo>
                      <a:pt x="622" y="858"/>
                      <a:pt x="623" y="869"/>
                      <a:pt x="630" y="870"/>
                    </a:cubicBezTo>
                    <a:cubicBezTo>
                      <a:pt x="654" y="873"/>
                      <a:pt x="796" y="848"/>
                      <a:pt x="822" y="846"/>
                    </a:cubicBezTo>
                    <a:cubicBezTo>
                      <a:pt x="824" y="840"/>
                      <a:pt x="834" y="828"/>
                      <a:pt x="828" y="828"/>
                    </a:cubicBezTo>
                    <a:cubicBezTo>
                      <a:pt x="810" y="828"/>
                      <a:pt x="799" y="878"/>
                      <a:pt x="798" y="882"/>
                    </a:cubicBezTo>
                    <a:cubicBezTo>
                      <a:pt x="795" y="891"/>
                      <a:pt x="814" y="870"/>
                      <a:pt x="822" y="864"/>
                    </a:cubicBezTo>
                    <a:cubicBezTo>
                      <a:pt x="850" y="885"/>
                      <a:pt x="853" y="906"/>
                      <a:pt x="888" y="918"/>
                    </a:cubicBezTo>
                    <a:cubicBezTo>
                      <a:pt x="948" y="905"/>
                      <a:pt x="935" y="919"/>
                      <a:pt x="966" y="876"/>
                    </a:cubicBezTo>
                    <a:cubicBezTo>
                      <a:pt x="979" y="858"/>
                      <a:pt x="1002" y="822"/>
                      <a:pt x="1002" y="822"/>
                    </a:cubicBezTo>
                    <a:cubicBezTo>
                      <a:pt x="1026" y="881"/>
                      <a:pt x="1004" y="874"/>
                      <a:pt x="1086" y="852"/>
                    </a:cubicBezTo>
                    <a:cubicBezTo>
                      <a:pt x="1144" y="817"/>
                      <a:pt x="1090" y="841"/>
                      <a:pt x="1188" y="846"/>
                    </a:cubicBezTo>
                    <a:cubicBezTo>
                      <a:pt x="1222" y="848"/>
                      <a:pt x="1244" y="830"/>
                      <a:pt x="1272" y="81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730680" y="5105160"/>
                <a:ext cx="685800" cy="38124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959280" y="5105160"/>
                <a:ext cx="685800" cy="381240"/>
              </a:xfrm>
              <a:prstGeom prst="triangle">
                <a:avLst>
                  <a:gd name="adj" fmla="val 50000"/>
                </a:avLst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416480" y="52578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807000" y="4572000"/>
                <a:ext cx="228600" cy="22860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747960" y="5438520"/>
                <a:ext cx="874800" cy="243000"/>
              </a:xfrm>
              <a:custGeom>
                <a:avLst/>
                <a:gdLst/>
                <a:ahLst/>
                <a:rect l="l" t="t" r="r" b="b"/>
                <a:pathLst>
                  <a:path w="551" h="153">
                    <a:moveTo>
                      <a:pt x="0" y="13"/>
                    </a:moveTo>
                    <a:cubicBezTo>
                      <a:pt x="82" y="0"/>
                      <a:pt x="163" y="5"/>
                      <a:pt x="244" y="22"/>
                    </a:cubicBezTo>
                    <a:cubicBezTo>
                      <a:pt x="342" y="19"/>
                      <a:pt x="441" y="7"/>
                      <a:pt x="539" y="13"/>
                    </a:cubicBezTo>
                    <a:cubicBezTo>
                      <a:pt x="548" y="14"/>
                      <a:pt x="551" y="31"/>
                      <a:pt x="548" y="40"/>
                    </a:cubicBezTo>
                    <a:cubicBezTo>
                      <a:pt x="547" y="42"/>
                      <a:pt x="492" y="89"/>
                      <a:pt x="487" y="92"/>
                    </a:cubicBezTo>
                    <a:cubicBezTo>
                      <a:pt x="430" y="126"/>
                      <a:pt x="335" y="143"/>
                      <a:pt x="270" y="153"/>
                    </a:cubicBezTo>
                    <a:cubicBezTo>
                      <a:pt x="252" y="150"/>
                      <a:pt x="233" y="152"/>
                      <a:pt x="217" y="144"/>
                    </a:cubicBezTo>
                    <a:cubicBezTo>
                      <a:pt x="208" y="139"/>
                      <a:pt x="210" y="120"/>
                      <a:pt x="200" y="118"/>
                    </a:cubicBezTo>
                    <a:cubicBezTo>
                      <a:pt x="140" y="107"/>
                      <a:pt x="78" y="112"/>
                      <a:pt x="17" y="109"/>
                    </a:cubicBezTo>
                    <a:cubicBezTo>
                      <a:pt x="6" y="73"/>
                      <a:pt x="0" y="53"/>
                      <a:pt x="0" y="13"/>
                    </a:cubicBez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990720" y="4067280"/>
            <a:ext cx="2514600" cy="1418760"/>
            <a:chOff x="990720" y="4067280"/>
            <a:chExt cx="2514600" cy="1418760"/>
          </a:xfrm>
        </p:grpSpPr>
        <p:grpSp>
          <p:nvGrpSpPr>
            <p:cNvPr id="90" name=""/>
            <p:cNvGrpSpPr/>
            <p:nvPr/>
          </p:nvGrpSpPr>
          <p:grpSpPr>
            <a:xfrm>
              <a:off x="990720" y="4067280"/>
              <a:ext cx="1679400" cy="1418760"/>
              <a:chOff x="990720" y="4067280"/>
              <a:chExt cx="1679400" cy="141876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1447920" y="4067280"/>
                <a:ext cx="838080" cy="838080"/>
                <a:chOff x="1447920" y="4067280"/>
                <a:chExt cx="838080" cy="8380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1447920" y="4219560"/>
                  <a:ext cx="152280" cy="6858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600200" y="4524480"/>
                  <a:ext cx="152280" cy="3808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752480" y="4676760"/>
                  <a:ext cx="152640" cy="228600"/>
                </a:xfrm>
                <a:prstGeom prst="rect">
                  <a:avLst/>
                </a:prstGeom>
                <a:solidFill>
                  <a:srgbClr val="9966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905120" y="4753080"/>
                  <a:ext cx="152280" cy="1522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447920" y="4905360"/>
                  <a:ext cx="83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V="1">
                  <a:off x="1447920" y="4067280"/>
                  <a:ext cx="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057400" y="4829040"/>
                  <a:ext cx="152280" cy="763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990720" y="4905360"/>
                <a:ext cx="1679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Colour distrib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286000" y="4676760"/>
              <a:ext cx="121932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837000" y="5791320"/>
            <a:ext cx="2668320" cy="781200"/>
            <a:chOff x="837000" y="5791320"/>
            <a:chExt cx="2668320" cy="781200"/>
          </a:xfrm>
        </p:grpSpPr>
        <p:grpSp>
          <p:nvGrpSpPr>
            <p:cNvPr id="102" name=""/>
            <p:cNvGrpSpPr/>
            <p:nvPr/>
          </p:nvGrpSpPr>
          <p:grpSpPr>
            <a:xfrm>
              <a:off x="837000" y="5857920"/>
              <a:ext cx="1220400" cy="714600"/>
              <a:chOff x="837000" y="5857920"/>
              <a:chExt cx="1220400" cy="714600"/>
            </a:xfrm>
          </p:grpSpPr>
          <p:sp>
            <p:nvSpPr>
              <p:cNvPr id="103" name=""/>
              <p:cNvSpPr/>
              <p:nvPr/>
            </p:nvSpPr>
            <p:spPr>
              <a:xfrm>
                <a:off x="837000" y="6235200"/>
                <a:ext cx="867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hap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00200" y="5857920"/>
                <a:ext cx="457200" cy="255240"/>
              </a:xfrm>
              <a:prstGeom prst="triangle">
                <a:avLst>
                  <a:gd name="adj" fmla="val 50000"/>
                </a:avLst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14400" y="5866920"/>
                <a:ext cx="457200" cy="22824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371600" y="5866920"/>
                <a:ext cx="228600" cy="22824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600200" y="6171840"/>
                <a:ext cx="457200" cy="126360"/>
              </a:xfrm>
              <a:custGeom>
                <a:avLst/>
                <a:gdLst/>
                <a:ahLst/>
                <a:rect l="l" t="t" r="r" b="b"/>
                <a:pathLst>
                  <a:path w="551" h="153">
                    <a:moveTo>
                      <a:pt x="0" y="13"/>
                    </a:moveTo>
                    <a:cubicBezTo>
                      <a:pt x="82" y="0"/>
                      <a:pt x="163" y="5"/>
                      <a:pt x="244" y="22"/>
                    </a:cubicBezTo>
                    <a:cubicBezTo>
                      <a:pt x="342" y="19"/>
                      <a:pt x="441" y="7"/>
                      <a:pt x="539" y="13"/>
                    </a:cubicBezTo>
                    <a:cubicBezTo>
                      <a:pt x="548" y="14"/>
                      <a:pt x="551" y="31"/>
                      <a:pt x="548" y="40"/>
                    </a:cubicBezTo>
                    <a:cubicBezTo>
                      <a:pt x="547" y="42"/>
                      <a:pt x="492" y="89"/>
                      <a:pt x="487" y="92"/>
                    </a:cubicBezTo>
                    <a:cubicBezTo>
                      <a:pt x="430" y="126"/>
                      <a:pt x="335" y="143"/>
                      <a:pt x="270" y="153"/>
                    </a:cubicBezTo>
                    <a:cubicBezTo>
                      <a:pt x="252" y="150"/>
                      <a:pt x="233" y="152"/>
                      <a:pt x="217" y="144"/>
                    </a:cubicBezTo>
                    <a:cubicBezTo>
                      <a:pt x="208" y="139"/>
                      <a:pt x="210" y="120"/>
                      <a:pt x="200" y="118"/>
                    </a:cubicBezTo>
                    <a:cubicBezTo>
                      <a:pt x="140" y="107"/>
                      <a:pt x="78" y="112"/>
                      <a:pt x="17" y="109"/>
                    </a:cubicBezTo>
                    <a:cubicBezTo>
                      <a:pt x="6" y="73"/>
                      <a:pt x="0" y="53"/>
                      <a:pt x="0" y="13"/>
                    </a:cubicBez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 flipV="1">
              <a:off x="2286000" y="5791320"/>
              <a:ext cx="12193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787640" y="5397480"/>
            <a:ext cx="1813320" cy="775080"/>
            <a:chOff x="4787640" y="5397480"/>
            <a:chExt cx="1813320" cy="775080"/>
          </a:xfrm>
        </p:grpSpPr>
        <p:sp>
          <p:nvSpPr>
            <p:cNvPr id="110" name=""/>
            <p:cNvSpPr/>
            <p:nvPr/>
          </p:nvSpPr>
          <p:spPr>
            <a:xfrm>
              <a:off x="5911200" y="5397480"/>
              <a:ext cx="68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rt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10" idx="1"/>
              <a:endCxn id="83" idx="0"/>
            </p:cNvCxnSpPr>
            <p:nvPr/>
          </p:nvCxnSpPr>
          <p:spPr>
            <a:xfrm flipV="1" rot="10800000">
              <a:off x="4787280" y="5577840"/>
              <a:ext cx="1080000" cy="324720"/>
            </a:xfrm>
            <a:prstGeom prst="curvedConnector5">
              <a:avLst>
                <a:gd name="adj1" fmla="val 46015"/>
                <a:gd name="adj2" fmla="val 91564"/>
                <a:gd name="adj3" fmla="val 4601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2" name=""/>
          <p:cNvGrpSpPr/>
          <p:nvPr/>
        </p:nvGrpSpPr>
        <p:grpSpPr>
          <a:xfrm>
            <a:off x="5029200" y="3886200"/>
            <a:ext cx="2768760" cy="1067400"/>
            <a:chOff x="5029200" y="3886200"/>
            <a:chExt cx="2768760" cy="1067400"/>
          </a:xfrm>
        </p:grpSpPr>
        <p:sp>
          <p:nvSpPr>
            <p:cNvPr id="113" name=""/>
            <p:cNvSpPr/>
            <p:nvPr/>
          </p:nvSpPr>
          <p:spPr>
            <a:xfrm>
              <a:off x="5943600" y="3886200"/>
              <a:ext cx="1854360" cy="10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3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onten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3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me hill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3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 lake an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3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he su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029200" y="403848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028840" y="5016600"/>
            <a:ext cx="3422160" cy="824040"/>
            <a:chOff x="5028840" y="5016600"/>
            <a:chExt cx="3422160" cy="824040"/>
          </a:xfrm>
        </p:grpSpPr>
        <p:sp>
          <p:nvSpPr>
            <p:cNvPr id="116" name=""/>
            <p:cNvSpPr/>
            <p:nvPr/>
          </p:nvSpPr>
          <p:spPr>
            <a:xfrm>
              <a:off x="7098120" y="5016600"/>
              <a:ext cx="135288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3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Represent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3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e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3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anqu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028840" y="54100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uctur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0480" y="2863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Syntactic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232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Description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3597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Descriptions of concepts and nam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Querie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CB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provides little support for higher lev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86240" indent="-27396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3333cc"/>
                </a:solidFill>
                <a:latin typeface="Arial Narrow"/>
              </a:rPr>
              <a:t>couple in their 60s/70s looking unhappy. Should be several pictures showing various degrees of misery.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7339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olution is to 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 Narrow"/>
              </a:rPr>
              <a:t>Semantic </a:t>
            </a:r>
            <a:r>
              <a:rPr b="0" lang="en-US" sz="3600" spc="-1" strike="noStrike">
                <a:solidFill>
                  <a:srgbClr val="006600"/>
                </a:solidFill>
                <a:latin typeface="Arial Narrow"/>
              </a:rPr>
              <a:t>Meta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trophy2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Current Mechanisms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ee tex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695160" y="2425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851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ifications; Coding Schemes; Thesa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AA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SH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5160" y="409896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Constraine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Vocabul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54356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munities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harin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5160" y="497844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’s a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restricte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we’re not going to try and model the entir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What’s wrong?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fficult to work wit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7716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ack of consistent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581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ttle support for 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browsin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navigatin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he meta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Narrow"/>
              </a:rPr>
              <a:t>Conceptual Hypermedia</a:t>
            </a:r>
            <a:endParaRPr b="0" lang="en-US" sz="4400" spc="-1" strike="noStrike">
              <a:solidFill>
                <a:srgbClr val="000066"/>
              </a:solidFill>
              <a:latin typeface="Arial Narrow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105520" y="1981080"/>
            <a:ext cx="3047760" cy="1905120"/>
            <a:chOff x="5105520" y="1981080"/>
            <a:chExt cx="3047760" cy="1905120"/>
          </a:xfrm>
        </p:grpSpPr>
        <p:sp>
          <p:nvSpPr>
            <p:cNvPr id="139" name=""/>
            <p:cNvSpPr/>
            <p:nvPr/>
          </p:nvSpPr>
          <p:spPr>
            <a:xfrm>
              <a:off x="5403960" y="1981080"/>
              <a:ext cx="22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cc"/>
                  </a:solidFill>
                  <a:latin typeface="Arial Narrow"/>
                </a:rPr>
                <a:t>Conceptual</a:t>
              </a:r>
              <a:r>
                <a:rPr b="0" lang="en-US" sz="2400" spc="-1" strike="noStrike">
                  <a:solidFill>
                    <a:srgbClr val="ff33cc"/>
                  </a:solidFill>
                  <a:latin typeface="Bookshelf Symbol 5"/>
                  <a:ea typeface="Bookshelf Symbol 5"/>
                </a:rPr>
                <a:t></a:t>
              </a:r>
              <a:r>
                <a:rPr b="0" lang="en-US" sz="2400" spc="-1" strike="noStrike">
                  <a:solidFill>
                    <a:srgbClr val="ff33cc"/>
                  </a:solidFill>
                  <a:latin typeface="Arial Narrow"/>
                </a:rPr>
                <a:t>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5105520" y="2438280"/>
              <a:ext cx="3047760" cy="1447920"/>
              <a:chOff x="5105520" y="2438280"/>
              <a:chExt cx="3047760" cy="1447920"/>
            </a:xfrm>
          </p:grpSpPr>
          <p:sp>
            <p:nvSpPr>
              <p:cNvPr id="141" name=""/>
              <p:cNvSpPr/>
              <p:nvPr/>
            </p:nvSpPr>
            <p:spPr>
              <a:xfrm>
                <a:off x="5105520" y="2438280"/>
                <a:ext cx="3047760" cy="1447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476760" y="25146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10280" y="274320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476760" y="28954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5880" y="266688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467480" y="289548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33960" y="32004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638680" y="327672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629400" y="342900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467480" y="320040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638680" y="289548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95880" y="335268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3" name=""/>
              <p:cNvCxnSpPr>
                <a:stCxn id="145" idx="5"/>
                <a:endCxn id="144" idx="1"/>
              </p:cNvCxnSpPr>
              <p:nvPr/>
            </p:nvCxnSpPr>
            <p:spPr>
              <a:xfrm>
                <a:off x="6225840" y="2796840"/>
                <a:ext cx="273240" cy="121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4" name=""/>
              <p:cNvCxnSpPr>
                <a:stCxn id="143" idx="4"/>
                <a:endCxn id="147" idx="0"/>
              </p:cNvCxnSpPr>
              <p:nvPr/>
            </p:nvCxnSpPr>
            <p:spPr>
              <a:xfrm flipH="1">
                <a:off x="7009560" y="2895120"/>
                <a:ext cx="76680" cy="30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5" name=""/>
              <p:cNvCxnSpPr>
                <a:stCxn id="147" idx="3"/>
                <a:endCxn id="149" idx="7"/>
              </p:cNvCxnSpPr>
              <p:nvPr/>
            </p:nvCxnSpPr>
            <p:spPr>
              <a:xfrm flipH="1">
                <a:off x="6759000" y="3330360"/>
                <a:ext cx="197280" cy="121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6" name=""/>
              <p:cNvCxnSpPr>
                <a:stCxn id="149" idx="2"/>
                <a:endCxn id="152" idx="6"/>
              </p:cNvCxnSpPr>
              <p:nvPr/>
            </p:nvCxnSpPr>
            <p:spPr>
              <a:xfrm flipH="1" flipV="1">
                <a:off x="6247800" y="3429000"/>
                <a:ext cx="381600" cy="76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7" name=""/>
              <p:cNvCxnSpPr>
                <a:stCxn id="152" idx="2"/>
                <a:endCxn id="148" idx="6"/>
              </p:cNvCxnSpPr>
              <p:nvPr/>
            </p:nvCxnSpPr>
            <p:spPr>
              <a:xfrm flipH="1" flipV="1">
                <a:off x="5790600" y="3352680"/>
                <a:ext cx="305280" cy="76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8" name=""/>
              <p:cNvCxnSpPr>
                <a:stCxn id="144" idx="3"/>
                <a:endCxn id="152" idx="7"/>
              </p:cNvCxnSpPr>
              <p:nvPr/>
            </p:nvCxnSpPr>
            <p:spPr>
              <a:xfrm flipH="1">
                <a:off x="6225480" y="3025800"/>
                <a:ext cx="273240" cy="349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9" name=""/>
              <p:cNvCxnSpPr>
                <a:stCxn id="144" idx="0"/>
                <a:endCxn id="142" idx="4"/>
              </p:cNvCxnSpPr>
              <p:nvPr/>
            </p:nvCxnSpPr>
            <p:spPr>
              <a:xfrm flipV="1">
                <a:off x="6552720" y="26661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0" name=""/>
              <p:cNvCxnSpPr>
                <a:stCxn id="145" idx="2"/>
                <a:endCxn id="151" idx="7"/>
              </p:cNvCxnSpPr>
              <p:nvPr/>
            </p:nvCxnSpPr>
            <p:spPr>
              <a:xfrm flipH="1">
                <a:off x="5768280" y="2742840"/>
                <a:ext cx="327240" cy="17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1" name=""/>
              <p:cNvCxnSpPr>
                <a:stCxn id="151" idx="4"/>
                <a:endCxn id="148" idx="0"/>
              </p:cNvCxnSpPr>
              <p:nvPr/>
            </p:nvCxnSpPr>
            <p:spPr>
              <a:xfrm>
                <a:off x="571464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2" name=""/>
              <p:cNvCxnSpPr>
                <a:stCxn id="143" idx="6"/>
                <a:endCxn id="146" idx="2"/>
              </p:cNvCxnSpPr>
              <p:nvPr/>
            </p:nvCxnSpPr>
            <p:spPr>
              <a:xfrm>
                <a:off x="7162560" y="2819160"/>
                <a:ext cx="30528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3" name=""/>
              <p:cNvCxnSpPr>
                <a:stCxn id="146" idx="4"/>
                <a:endCxn id="150" idx="0"/>
              </p:cNvCxnSpPr>
              <p:nvPr/>
            </p:nvCxnSpPr>
            <p:spPr>
              <a:xfrm>
                <a:off x="7543440" y="3047760"/>
                <a:ext cx="108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164" name=""/>
          <p:cNvSpPr/>
          <p:nvPr/>
        </p:nvSpPr>
        <p:spPr>
          <a:xfrm>
            <a:off x="4572000" y="43434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143680" y="4876920"/>
            <a:ext cx="2971800" cy="1296360"/>
            <a:chOff x="5143680" y="4876920"/>
            <a:chExt cx="2971800" cy="1296360"/>
          </a:xfrm>
        </p:grpSpPr>
        <p:grpSp>
          <p:nvGrpSpPr>
            <p:cNvPr id="166" name=""/>
            <p:cNvGrpSpPr/>
            <p:nvPr/>
          </p:nvGrpSpPr>
          <p:grpSpPr>
            <a:xfrm>
              <a:off x="5143680" y="4876920"/>
              <a:ext cx="2971800" cy="457200"/>
              <a:chOff x="5143680" y="4876920"/>
              <a:chExt cx="2971800" cy="45720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5810400" y="4876920"/>
                <a:ext cx="30492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7143840" y="4876920"/>
                <a:ext cx="30492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477120" y="4876920"/>
                <a:ext cx="30492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5143680" y="4876920"/>
                <a:ext cx="30492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7810560" y="4876920"/>
                <a:ext cx="30492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ff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5581080" y="5713560"/>
              <a:ext cx="20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cc"/>
                  </a:solidFill>
                  <a:latin typeface="Arial Narrow"/>
                </a:rPr>
                <a:t>Documen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2400" spc="-1" strike="noStrike">
                  <a:solidFill>
                    <a:srgbClr val="ff33cc"/>
                  </a:solidFill>
                  <a:latin typeface="Arial Narrow"/>
                </a:rPr>
                <a:t>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293080" y="5334120"/>
            <a:ext cx="2668680" cy="518040"/>
            <a:chOff x="5293080" y="5334120"/>
            <a:chExt cx="2668680" cy="518040"/>
          </a:xfrm>
        </p:grpSpPr>
        <p:cxnSp>
          <p:nvCxnSpPr>
            <p:cNvPr id="174" name=""/>
            <p:cNvCxnSpPr>
              <a:stCxn id="170" idx="0"/>
              <a:endCxn id="167" idx="0"/>
            </p:cNvCxnSpPr>
            <p:nvPr/>
          </p:nvCxnSpPr>
          <p:spPr>
            <a:xfrm flipH="1" rot="16200000">
              <a:off x="5626080" y="5001120"/>
              <a:ext cx="2160" cy="66780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5" name=""/>
            <p:cNvCxnSpPr>
              <a:stCxn id="167" idx="0"/>
              <a:endCxn id="168" idx="0"/>
            </p:cNvCxnSpPr>
            <p:nvPr/>
          </p:nvCxnSpPr>
          <p:spPr>
            <a:xfrm flipH="1" rot="16200000">
              <a:off x="6627240" y="4667760"/>
              <a:ext cx="2160" cy="1334160"/>
            </a:xfrm>
            <a:prstGeom prst="curvedConnector5">
              <a:avLst>
                <a:gd name="adj1" fmla="val 24280000"/>
                <a:gd name="adj2" fmla="val 49986"/>
                <a:gd name="adj3" fmla="val 2428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"/>
            <p:cNvCxnSpPr>
              <a:stCxn id="169" idx="0"/>
              <a:endCxn id="171" idx="0"/>
            </p:cNvCxnSpPr>
            <p:nvPr/>
          </p:nvCxnSpPr>
          <p:spPr>
            <a:xfrm flipH="1" rot="16200000">
              <a:off x="7293960" y="4667760"/>
              <a:ext cx="2160" cy="1334160"/>
            </a:xfrm>
            <a:prstGeom prst="curvedConnector5">
              <a:avLst>
                <a:gd name="adj1" fmla="val 14400000"/>
                <a:gd name="adj2" fmla="val 49986"/>
                <a:gd name="adj3" fmla="val 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" name=""/>
            <p:cNvCxnSpPr>
              <a:stCxn id="169" idx="0"/>
              <a:endCxn id="167" idx="0"/>
            </p:cNvCxnSpPr>
            <p:nvPr/>
          </p:nvCxnSpPr>
          <p:spPr>
            <a:xfrm rot="5400000">
              <a:off x="6293160" y="5001480"/>
              <a:ext cx="2160" cy="667440"/>
            </a:xfrm>
            <a:prstGeom prst="curvedConnector5">
              <a:avLst>
                <a:gd name="adj1" fmla="val 7980000"/>
                <a:gd name="adj2" fmla="val 49973"/>
                <a:gd name="adj3" fmla="val 798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"/>
            <p:cNvCxnSpPr>
              <a:stCxn id="169" idx="0"/>
              <a:endCxn id="170" idx="0"/>
            </p:cNvCxnSpPr>
            <p:nvPr/>
          </p:nvCxnSpPr>
          <p:spPr>
            <a:xfrm rot="5400000">
              <a:off x="5959440" y="4667760"/>
              <a:ext cx="2160" cy="1334520"/>
            </a:xfrm>
            <a:prstGeom prst="curvedConnector5">
              <a:avLst>
                <a:gd name="adj1" fmla="val 28780000"/>
                <a:gd name="adj2" fmla="val 50000"/>
                <a:gd name="adj3" fmla="val 2878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ceptual domain mod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del is an semantic index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19520"/>
            <a:ext cx="4114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relations between concepts to link between source and destination nodes in the document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4343400"/>
            <a:ext cx="4114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avigate through the document space via navigation of the conceptu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972040" y="3875760"/>
            <a:ext cx="1314720" cy="973440"/>
            <a:chOff x="5972040" y="3875760"/>
            <a:chExt cx="1314720" cy="973440"/>
          </a:xfrm>
        </p:grpSpPr>
        <p:sp>
          <p:nvSpPr>
            <p:cNvPr id="183" name=""/>
            <p:cNvSpPr/>
            <p:nvPr/>
          </p:nvSpPr>
          <p:spPr>
            <a:xfrm rot="17032800">
              <a:off x="5708520" y="4260960"/>
              <a:ext cx="952560" cy="203040"/>
            </a:xfrm>
            <a:prstGeom prst="rightArrow">
              <a:avLst>
                <a:gd name="adj1" fmla="val 50000"/>
                <a:gd name="adj2" fmla="val 11728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 rot="4567200">
              <a:off x="6597360" y="4260960"/>
              <a:ext cx="952560" cy="203040"/>
            </a:xfrm>
            <a:prstGeom prst="rightArrow">
              <a:avLst>
                <a:gd name="adj1" fmla="val 50000"/>
                <a:gd name="adj2" fmla="val 11728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715000" y="2463840"/>
            <a:ext cx="762120" cy="431640"/>
          </a:xfrm>
          <a:custGeom>
            <a:avLst/>
            <a:gdLst/>
            <a:ahLst/>
            <a:rect l="l" t="t" r="r" b="b"/>
            <a:pathLst>
              <a:path w="432" h="272">
                <a:moveTo>
                  <a:pt x="0" y="272"/>
                </a:moveTo>
                <a:cubicBezTo>
                  <a:pt x="12" y="168"/>
                  <a:pt x="24" y="64"/>
                  <a:pt x="96" y="32"/>
                </a:cubicBezTo>
                <a:cubicBezTo>
                  <a:pt x="168" y="0"/>
                  <a:pt x="300" y="40"/>
                  <a:pt x="432" y="8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4876920"/>
            <a:ext cx="1371600" cy="304560"/>
          </a:xfrm>
          <a:custGeom>
            <a:avLst/>
            <a:gdLst/>
            <a:ahLst/>
            <a:rect l="l" t="t" r="r" b="b"/>
            <a:pathLst>
              <a:path w="864" h="192">
                <a:moveTo>
                  <a:pt x="0" y="192"/>
                </a:moveTo>
                <a:cubicBezTo>
                  <a:pt x="144" y="96"/>
                  <a:pt x="288" y="0"/>
                  <a:pt x="432" y="0"/>
                </a:cubicBezTo>
                <a:cubicBezTo>
                  <a:pt x="576" y="0"/>
                  <a:pt x="720" y="96"/>
                  <a:pt x="864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49840" y="3048120"/>
            <a:ext cx="888840" cy="1904760"/>
          </a:xfrm>
          <a:custGeom>
            <a:avLst/>
            <a:gdLst/>
            <a:ahLst/>
            <a:rect l="l" t="t" r="r" b="b"/>
            <a:pathLst>
              <a:path w="512" h="1248">
                <a:moveTo>
                  <a:pt x="320" y="1248"/>
                </a:moveTo>
                <a:cubicBezTo>
                  <a:pt x="160" y="1016"/>
                  <a:pt x="0" y="784"/>
                  <a:pt x="32" y="576"/>
                </a:cubicBezTo>
                <a:cubicBezTo>
                  <a:pt x="64" y="368"/>
                  <a:pt x="288" y="184"/>
                  <a:pt x="512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29400" y="2590920"/>
            <a:ext cx="469800" cy="2438280"/>
          </a:xfrm>
          <a:custGeom>
            <a:avLst/>
            <a:gdLst/>
            <a:ahLst/>
            <a:rect l="l" t="t" r="r" b="b"/>
            <a:pathLst>
              <a:path w="296" h="1536">
                <a:moveTo>
                  <a:pt x="0" y="0"/>
                </a:moveTo>
                <a:cubicBezTo>
                  <a:pt x="140" y="184"/>
                  <a:pt x="280" y="368"/>
                  <a:pt x="288" y="624"/>
                </a:cubicBezTo>
                <a:cubicBezTo>
                  <a:pt x="296" y="880"/>
                  <a:pt x="172" y="1208"/>
                  <a:pt x="48" y="1536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15:43:53Z</dcterms:created>
  <dc:creator>Sean Bechhofer</dc:creator>
  <dc:description/>
  <dc:language>en-US</dc:language>
  <cp:lastModifiedBy>Sean Bechhofer</cp:lastModifiedBy>
  <dcterms:modified xsi:type="dcterms:W3CDTF">1999-01-20T11:33:21Z</dcterms:modified>
  <cp:revision>92</cp:revision>
  <dc:subject/>
  <dc:title>No Slide Title</dc:title>
</cp:coreProperties>
</file>